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9A49-47B8-4B9E-B605-38E0DF47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54D8-BBB1-4115-9F31-41B5C98A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1CEB-62FE-4879-BF1E-43F113BE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B472-C250-49E7-B681-2BE01166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2016-1C2D-4720-A091-877C9878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7EB5-7532-4967-B24D-B521BE97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094C-4266-4704-B561-B3B66BC7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A3A8-3539-4371-962F-5031FE1F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0280-E743-40E2-9E49-F0707AA4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A0F1-F4FB-48D5-AF2E-84569D15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DBEA-7C83-4D07-AACC-60043700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DB08-DFBD-40FD-B756-A64CC5AD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02ED-0371-4FD6-A1EB-F9C6C618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47D3-5025-4B09-84F1-66E73FE7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9849-6E40-40C0-8BCF-5F3005C4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2358-899D-4285-9CB2-7AFA3503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4A2F-D4B9-4CCA-AF5F-933684B1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1E095-374D-4022-AD5C-47F11405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6AE77-5265-4E32-91AE-11CFBD03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6504A-4618-43CF-A9AB-0CDD3837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AC641-7DFA-4613-BDB9-6229CE92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975FF-30F4-4EB1-8ACA-02D90548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CE8E-B9F3-4E5C-99E7-2120FD0B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0DD40-55B3-49B9-A091-C6709C0C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5CC0D-594F-40A6-8980-358D41FD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ACB21-BC28-41F5-B595-978FAE88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BDEA0-D6AA-403A-982F-EFBCBC56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EC8D5-E967-4FD1-B40F-B8636942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3A962-4CC5-44DF-9907-B44512EE0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D79A3-AD9F-4E9F-ACD9-A8E41FF2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4781E-AF9A-4661-9E63-F89FC050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C77A6-0ABC-47A2-B51C-5B01E7E4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CDB31-B406-4C2E-9D06-77772D66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F1AA-2EA9-4D97-87F7-34AFFB85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FDB7D-8AE9-4D7B-8287-354782B9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BE2FD-47E2-464B-911B-046864E9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BEDAD-E76C-45AE-8C2F-394FE39E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9E056-B2C2-45F4-949C-900E7FA7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6BFAF-6CB8-4DF1-ABAA-70B24428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7A23B-CEF0-4F62-9602-ADC7936C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03974-E16D-45BF-A9F9-66D1C197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B944F-9B03-4AD0-BDA7-3C02BC07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97107-E73C-4954-979C-B80D8540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98EEE-B9EF-4FC6-B40F-75A6A95F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4E3F-0810-4797-9BFF-5DD72566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25F9C-DB06-4552-8706-2DFA6EE9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79FB8-4707-4723-96B0-D1FBDA68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042FB-BA5A-4D2F-8B7D-08207979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27DE8-F082-41FF-907D-B4B5A46B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2D2FE-2152-430A-92D1-72A099B6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8420C-133C-4B3F-AD9E-2BA3D73B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FF06A-DC26-4462-96E0-B5439408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7D85A-D8AD-4EE4-B52A-C99DAD16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CA3A9-B492-4347-9CA2-4F3A421B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A6D24-AA09-4E87-8EC6-4133FD85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1C47-7AFC-4B56-B2ED-1D2D03D0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BDC97-8030-493B-A1B3-791BBFB5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56C9B-752D-4854-90DC-0F003546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FD5A9-C1C5-49AD-BAC1-07C7D1E5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86246-81CD-4CC3-8A33-245AE818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3E6C5-981B-4220-B90A-4CF2B574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E916C-2B6D-4832-AE27-9A0ADF4C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6C0C7-C4FB-4E4B-AB45-F5876D26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45EC5-AAB5-4F60-AA77-E2C25F7A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C8245-3A0A-4A00-AB06-D432F0F0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4D1A2-038A-4123-8602-533EB5EF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AEF7-0E10-4C7C-B487-AD3DFCD7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2F17C-CC39-4C32-A213-4AD74454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51213-6B40-4153-B617-2A7719B0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2ED0E-5600-47CF-83A5-3D29A9DD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226A8-E8ED-46A8-B252-F4DCA939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F3741-DF6C-45B8-962D-64F78004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8F36C-A77B-4319-A417-AA8CFE15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AFF9A-812D-468A-B033-4C88B6D1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51ABB-E911-4D63-A22A-3D492BC4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AB111-822E-451F-A18A-3492D845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4621D-2A61-4032-93EE-10039CB8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5C5E-D271-4D35-A22A-3D0BEE79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C91D3-EADC-4287-8FD1-CAC098CF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D0385-DF5B-4A5E-B41E-80B4893A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05E94-276B-40B5-AD3C-7CE10250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1F12B-BCBB-4A08-B044-214A3314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0003A-9021-4DB9-864C-5C8B8CE3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CEFCE-6832-4B64-8D90-40E9A3D9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5F425-6C48-4ECA-8181-F455FA7B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38F5A-1E02-4F90-9366-A88046F6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85319-B0EF-4DB4-A491-01A0376F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ACD4A-F37E-4CCF-8657-211BA46B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7216-14D9-4354-963C-CCC9BB15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EF835-5752-46CF-99E7-1345C91A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4E653-624F-4AA9-82D3-7541AD51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B97ED-A1D4-4207-857E-4E8333CA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65705-102D-406E-9F35-E6A18C1D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0E063-CA51-4499-A3BE-D408CA15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BD619-8EA3-4AD9-99C2-31C934E6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5B980-31BE-430A-8BEE-4AC054CE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307A-4E6F-4106-9AF7-18DF67FCBC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3613-F962-4915-A34C-FE2649EDAEB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5B4F-FB13-44CC-85A3-4D133AD525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C635-C45E-4210-9781-A548882574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8CF9-66B9-4613-A412-5EF5AD3348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59F8-BE15-44AA-86F3-D4AAB51CEB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EFEF-857A-4310-89F8-C9CCA6A9EB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CCD6-5DC5-465B-AB63-346EEDB0931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C:\Users\KBPO\Desktop\G SIR G\PPT\G sir G PPT\NAGPUR\COLD STORA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old Storage Unit Type 2 with Multiple   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emperature Zones And Basic Material Handling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785880"/>
                <a:gridCol w="2085840"/>
                <a:gridCol w="1406520"/>
                <a:gridCol w="2144880"/>
                <a:gridCol w="1360440"/>
                <a:gridCol w="136044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r.n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er MT In 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roject Am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ubsidy In 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7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1MT  to 6500M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7.5 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.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1 MT To 8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 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1 To 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 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d Storage Units Type 2 With Add On Technology For Controlled Atmosph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0" y="0"/>
          <a:ext cx="9220320" cy="6858000"/>
        </p:xfrm>
        <a:graphic>
          <a:graphicData uri="http://schemas.openxmlformats.org/drawingml/2006/table">
            <a:tbl>
              <a:tblPr/>
              <a:tblGrid>
                <a:gridCol w="792000"/>
                <a:gridCol w="2103480"/>
                <a:gridCol w="1417680"/>
                <a:gridCol w="2163960"/>
                <a:gridCol w="1371600"/>
                <a:gridCol w="1371600"/>
              </a:tblGrid>
              <a:tr h="298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r.n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er MT In 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roject Am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ubsidy In 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4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M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chnology Induction And Modernization Of Cold Cha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785880"/>
                <a:gridCol w="2085840"/>
                <a:gridCol w="1406520"/>
                <a:gridCol w="2144880"/>
                <a:gridCol w="1360440"/>
                <a:gridCol w="1360440"/>
              </a:tblGrid>
              <a:tr h="304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.n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 MT In 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Am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idy In 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7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M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04920" y="2438280"/>
            <a:ext cx="8534160" cy="4114800"/>
          </a:xfrm>
          <a:prstGeom prst="rect">
            <a:avLst/>
          </a:prstGeom>
          <a:solidFill>
            <a:srgbClr val="ec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WordArt 3"/>
          <p:cNvSpPr txBox="1"/>
          <p:nvPr/>
        </p:nvSpPr>
        <p:spPr>
          <a:xfrm>
            <a:off x="1295280" y="457200"/>
            <a:ext cx="6858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 You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98" name="Rectangle 4" descr=""/>
          <p:cNvPicPr/>
          <p:nvPr/>
        </p:nvPicPr>
        <p:blipFill>
          <a:blip r:embed="rId1"/>
          <a:stretch/>
        </p:blipFill>
        <p:spPr>
          <a:xfrm>
            <a:off x="878040" y="2852640"/>
            <a:ext cx="8272440" cy="3024360"/>
          </a:xfrm>
          <a:prstGeom prst="rect">
            <a:avLst/>
          </a:prstGeom>
          <a:ln w="0">
            <a:noFill/>
          </a:ln>
        </p:spPr>
      </p:pic>
      <p:sp>
        <p:nvSpPr>
          <p:cNvPr id="399" name="TextBox 4"/>
          <p:cNvSpPr/>
          <p:nvPr/>
        </p:nvSpPr>
        <p:spPr>
          <a:xfrm>
            <a:off x="6553080" y="65642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Garamond"/>
              </a:rPr>
              <a:t>www.industrialsubsid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6"/>
          <p:cNvSpPr/>
          <p:nvPr/>
        </p:nvSpPr>
        <p:spPr>
          <a:xfrm>
            <a:off x="108000" y="3375000"/>
            <a:ext cx="8807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CAPITAL INVESTMENT SUBSIDY SCHEME FOR CONSTRUCTION /EXPANSION/MODERNIZATION OF COLD STORAGES/STORAGES HORTICULTURE PRODU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Cold-Storage.jpg"/>
          <p:cNvPicPr/>
          <p:nvPr/>
        </p:nvPicPr>
        <p:blipFill>
          <a:blip r:embed="rId1"/>
          <a:stretch/>
        </p:blipFill>
        <p:spPr>
          <a:xfrm>
            <a:off x="1835280" y="0"/>
            <a:ext cx="5257800" cy="3456000"/>
          </a:xfrm>
          <a:prstGeom prst="rect">
            <a:avLst/>
          </a:prstGeom>
          <a:ln w="0">
            <a:noFill/>
          </a:ln>
        </p:spPr>
      </p:pic>
      <p:sp>
        <p:nvSpPr>
          <p:cNvPr id="373" name="TextBox 3"/>
          <p:cNvSpPr/>
          <p:nvPr/>
        </p:nvSpPr>
        <p:spPr>
          <a:xfrm>
            <a:off x="6553080" y="65642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Garamond"/>
              </a:rPr>
              <a:t>www.industrialsubsid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0"/>
            <a:ext cx="91440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king Application for a Letter of Intent under the scheme“ Capital Investment Subsidy Scheme for Construction / Expansion / Modernization  of Cold  Storages / Storage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company1.jpg"/>
          <p:cNvPicPr/>
          <p:nvPr/>
        </p:nvPicPr>
        <p:blipFill>
          <a:blip r:embed="rId1"/>
          <a:stretch/>
        </p:blipFill>
        <p:spPr>
          <a:xfrm>
            <a:off x="0" y="2133720"/>
            <a:ext cx="9155160" cy="4724280"/>
          </a:xfrm>
          <a:prstGeom prst="rect">
            <a:avLst/>
          </a:prstGeom>
          <a:ln w="0">
            <a:noFill/>
          </a:ln>
        </p:spPr>
      </p:pic>
      <p:sp>
        <p:nvSpPr>
          <p:cNvPr id="376" name="TextBox 4"/>
          <p:cNvSpPr/>
          <p:nvPr/>
        </p:nvSpPr>
        <p:spPr>
          <a:xfrm>
            <a:off x="6553080" y="6488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www.industrialsubsid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324000" y="328464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ONENTS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Credit linked projects relating to cold storages including  controlled atmosphere (CA) and modified atmosphere (MA) stores, pre-cooling units, other storages for onion, etc., their modernization are eligible for assistance under this compon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" descr="11multi-commodity-cold-stor-250x250.jpg"/>
          <p:cNvPicPr/>
          <p:nvPr/>
        </p:nvPicPr>
        <p:blipFill>
          <a:blip r:embed="rId1"/>
          <a:stretch/>
        </p:blipFill>
        <p:spPr>
          <a:xfrm>
            <a:off x="1835280" y="0"/>
            <a:ext cx="5184720" cy="3284640"/>
          </a:xfrm>
          <a:prstGeom prst="rect">
            <a:avLst/>
          </a:prstGeom>
          <a:ln w="0">
            <a:noFill/>
          </a:ln>
        </p:spPr>
      </p:pic>
      <p:sp>
        <p:nvSpPr>
          <p:cNvPr id="379" name="TextBox 3"/>
          <p:cNvSpPr/>
          <p:nvPr/>
        </p:nvSpPr>
        <p:spPr>
          <a:xfrm>
            <a:off x="6553080" y="65642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Garamond"/>
              </a:rPr>
              <a:t>www.industrialsubsid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"/>
          <p:cNvSpPr/>
          <p:nvPr/>
        </p:nvSpPr>
        <p:spPr>
          <a:xfrm>
            <a:off x="0" y="37735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</a:t>
            </a:r>
            <a:r>
              <a:rPr b="0" lang="en-US" sz="2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PATTERN OR ASSISTANCE: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The assistance will be as credit linked back-ended subsidy @35% of the capital cost of project in general areas and 50% in case of Hilly &amp;  scheduled areas for a maximum storage capacity of 10000 MT per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rupee7_325_0228110249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767040"/>
          </a:xfrm>
          <a:prstGeom prst="rect">
            <a:avLst/>
          </a:prstGeom>
          <a:ln w="0">
            <a:noFill/>
          </a:ln>
        </p:spPr>
      </p:pic>
      <p:sp>
        <p:nvSpPr>
          <p:cNvPr id="382" name="TextBox 3"/>
          <p:cNvSpPr/>
          <p:nvPr/>
        </p:nvSpPr>
        <p:spPr>
          <a:xfrm>
            <a:off x="6553080" y="65642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Garamond"/>
              </a:rPr>
              <a:t>www.industrialsubsid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1"/>
          <p:cNvSpPr/>
          <p:nvPr/>
        </p:nvSpPr>
        <p:spPr>
          <a:xfrm>
            <a:off x="0" y="44280"/>
            <a:ext cx="914400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GENERAL CONDITIONS FOR COLD STORAGE PROJECTS: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                                                                                                                             </a:t>
            </a:r>
            <a:r>
              <a:rPr b="1" lang="en-US" sz="2400" spc="-1" strike="noStrike">
                <a:solidFill>
                  <a:srgbClr val="c00000"/>
                </a:solidFill>
                <a:latin typeface="Garamond"/>
                <a:ea typeface="Arial Unicode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Multi-chamber cold storage with mezzanine floors of RC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Garamond"/>
                <a:ea typeface="Arial Unicode MS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002060"/>
                </a:solidFill>
                <a:latin typeface="Garamond"/>
                <a:ea typeface="Arial Unicode MS"/>
              </a:rPr>
              <a:t>AND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wooden structure for products not requiring pre-cooling, temper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range 0 degree Celsius plus  to 16 degree Celsius or above  with fin-c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cooling system, with control system for humidity (RH 80% to 95%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general and 65%-70% for onion &amp; garlic or appropriate level for s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storage etc) and appropriate handling of stored commodity with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system against accidents of fire, leakage of refrigerant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Minimum of two chambers, standard insulation material, with civil structure, insulations and cooling system as per prescribed standard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2"/>
          <p:cNvSpPr/>
          <p:nvPr/>
        </p:nvSpPr>
        <p:spPr>
          <a:xfrm>
            <a:off x="6553080" y="65642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Garamond"/>
              </a:rPr>
              <a:t>www.industrialsubsid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3" descr="618.jpg"/>
          <p:cNvPicPr/>
          <p:nvPr/>
        </p:nvPicPr>
        <p:blipFill>
          <a:blip r:embed="rId1"/>
          <a:stretch/>
        </p:blipFill>
        <p:spPr>
          <a:xfrm>
            <a:off x="1692360" y="0"/>
            <a:ext cx="5327640" cy="399564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4"/>
          <p:cNvSpPr/>
          <p:nvPr/>
        </p:nvSpPr>
        <p:spPr>
          <a:xfrm>
            <a:off x="0" y="4365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Garamond"/>
              </a:rPr>
              <a:t>                                                     </a:t>
            </a:r>
            <a:r>
              <a:rPr b="0" lang="en-US" sz="2400" spc="-1" strike="noStrike">
                <a:solidFill>
                  <a:srgbClr val="002060"/>
                </a:solidFill>
                <a:latin typeface="Garamond"/>
              </a:rPr>
              <a:t>CAPITAL COST PER TON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aramond"/>
              </a:rPr>
              <a:t>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@Rs 8,000 per M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R 5000 MT  @Rs 8,000 per MT =4 CR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UBSIDY@35% ON 4 CRORE =1.4 CR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UBSIDY@50% ON 4 CRORE =2.00CR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5"/>
          <p:cNvSpPr/>
          <p:nvPr/>
        </p:nvSpPr>
        <p:spPr>
          <a:xfrm>
            <a:off x="6553080" y="65642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Garamond"/>
              </a:rPr>
              <a:t>www.industrialsubsid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61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785880"/>
                <a:gridCol w="2085840"/>
                <a:gridCol w="1406520"/>
                <a:gridCol w="2144880"/>
                <a:gridCol w="1511280"/>
                <a:gridCol w="1209600"/>
              </a:tblGrid>
              <a:tr h="14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r.n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er MT In 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roject Am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ubsidy In 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8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1MT  to 6500M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4 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.9 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1 MT To 8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 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1 To 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0 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8T11:21:48Z</dcterms:created>
  <dc:creator>pc11</dc:creator>
  <dc:description/>
  <dc:language>en-US</dc:language>
  <cp:lastModifiedBy>KBPO</cp:lastModifiedBy>
  <dcterms:modified xsi:type="dcterms:W3CDTF">2015-12-09T07:09:47Z</dcterms:modified>
  <cp:revision>23</cp:revision>
  <dc:subject/>
  <dc:title>Slide 1</dc:title>
</cp:coreProperties>
</file>