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E7FED-B170-4916-8D35-0FEF3E620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542F-A0BD-4A05-917E-6E676D42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5A1DA-A708-4DEE-B10C-BFF24ACE7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8D3AB-765B-434C-AB55-1348CB6C3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4120C-6010-43AF-A64F-B563925E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9D5F-A41A-45FB-BC78-0FAEBC68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1AB9-8138-4DC3-B0CF-53BBD94A8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B8F06-F1CD-4033-AFDC-37505153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65194-7797-45CD-B76C-F3537216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F7D1-1322-4362-8A04-4F3FF6B1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941D-F7E2-4CBF-9D1F-5E9D709B7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BA82-5476-4E52-8A32-BE3D6846B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B8B1-8B55-4EEB-BC86-36AF4AD93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CDS</a:t>
            </a:r>
            <a:endParaRPr b="0" lang="en-US" sz="2400" spc="-1" strike="noStrike">
              <a:solidFill>
                <a:srgbClr val="000000"/>
              </a:solidFill>
              <a:latin typeface="Arial"/>
            </a:endParaRPr>
          </a:p>
        </p:txBody>
      </p:sp>
      <p:sp>
        <p:nvSpPr>
          <p:cNvPr id="42" name=""/>
          <p:cNvSpPr/>
          <p:nvPr/>
        </p:nvSpPr>
        <p:spPr>
          <a:xfrm>
            <a:off x="380880" y="0"/>
            <a:ext cx="8382240" cy="1295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COME COMPUTATION  &amp; DISCLOSURE STANDAR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CDS</a:t>
            </a:r>
            <a:endParaRPr b="0" lang="en-US" sz="2400" spc="-1" strike="noStrike">
              <a:solidFill>
                <a:srgbClr val="000000"/>
              </a:solidFill>
              <a:latin typeface="Arial"/>
            </a:endParaRPr>
          </a:p>
        </p:txBody>
      </p:sp>
      <p:pic>
        <p:nvPicPr>
          <p:cNvPr id="43" name="" descr=""/>
          <p:cNvPicPr/>
          <p:nvPr/>
        </p:nvPicPr>
        <p:blipFill>
          <a:blip r:embed="rId1"/>
          <a:stretch/>
        </p:blipFill>
        <p:spPr>
          <a:xfrm>
            <a:off x="1752480" y="1676520"/>
            <a:ext cx="5334120" cy="3886200"/>
          </a:xfrm>
          <a:prstGeom prst="rect">
            <a:avLst/>
          </a:prstGeom>
          <a:ln w="0">
            <a:noFill/>
          </a:ln>
        </p:spPr>
      </p:pic>
      <p:sp>
        <p:nvSpPr>
          <p:cNvPr id="3" name="PlaceHolder 2"/>
          <p:cNvSpPr>
            <a:spLocks noGrp="1"/>
          </p:cNvSpPr>
          <p:nvPr>
            <p:ph type="ftr" idx="2"/>
          </p:nvPr>
        </p:nvSpPr>
        <p:spPr/>
        <p:txBody>
          <a:bodyPr/>
          <a:p>
            <a:r>
              <a:t>H. N. Motiwalla</a:t>
            </a:r>
          </a:p>
        </p:txBody>
      </p:sp>
      <p:sp>
        <p:nvSpPr>
          <p:cNvPr id="4" name="PlaceHolder 3"/>
          <p:cNvSpPr>
            <a:spLocks noGrp="1"/>
          </p:cNvSpPr>
          <p:nvPr>
            <p:ph type="sldNum" idx="3"/>
          </p:nvPr>
        </p:nvSpPr>
        <p:spPr/>
        <p:txBody>
          <a:bodyPr/>
          <a:p>
            <a:fld id="{F946FB35-4A9A-4F31-A2B9-E80DD7E12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Conversion:</a:t>
            </a:r>
            <a:endParaRPr b="0" lang="en-US" sz="1800" spc="-1" strike="noStrike">
              <a:solidFill>
                <a:srgbClr val="000000"/>
              </a:solidFill>
              <a:latin typeface="Arial"/>
            </a:endParaRPr>
          </a:p>
          <a:p>
            <a:pPr marL="31212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 cost directly related to units  of production and systematic allocation of  fixed &amp; variable production overheads that are incurred in converting material to finished goods.</a:t>
            </a:r>
            <a:endParaRPr b="0" lang="en-US" sz="1800" spc="-1" strike="noStrike">
              <a:solidFill>
                <a:srgbClr val="000000"/>
              </a:solidFill>
              <a:latin typeface="Arial"/>
            </a:endParaRPr>
          </a:p>
          <a:p>
            <a:pPr marL="31212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xed production overheads - indirect cost  remain constant  regardless of volume of production  like factory depreciation, factory building maintenance, factory management and  administration   etc. </a:t>
            </a:r>
            <a:endParaRPr b="0" lang="en-US" sz="1800" spc="-1" strike="noStrike">
              <a:solidFill>
                <a:srgbClr val="000000"/>
              </a:solidFill>
              <a:latin typeface="Arial"/>
            </a:endParaRPr>
          </a:p>
          <a:p>
            <a:pPr marL="31212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iable production overheads  - indirect cost vary directly or indirectly with volume of production.</a:t>
            </a:r>
            <a:endParaRPr b="0" lang="en-US" sz="1800" spc="-1" strike="noStrike">
              <a:solidFill>
                <a:srgbClr val="000000"/>
              </a:solidFill>
              <a:latin typeface="Arial"/>
            </a:endParaRPr>
          </a:p>
          <a:p>
            <a:pPr marL="312120" indent="-31212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fixed production overheads shall be  allocated on the basis of normal capacity of the production.  Which is determined  on the basis of average over a  number of  periods or seasons, after considering loss capacity resulting from planned maintenance. Thus fixed production overheads allocated to each production unit  shall not be increased as consequence of low production or idle plant.  In such case unallocated overheads shall be recognized as an expense in the period in which they are incurred.</a:t>
            </a:r>
            <a:endParaRPr b="0" lang="en-US" sz="1800" spc="-1" strike="noStrike">
              <a:solidFill>
                <a:srgbClr val="000000"/>
              </a:solidFill>
              <a:latin typeface="Arial"/>
            </a:endParaRPr>
          </a:p>
        </p:txBody>
      </p:sp>
      <p:sp>
        <p:nvSpPr>
          <p:cNvPr id="70" name=""/>
          <p:cNvSpPr/>
          <p:nvPr/>
        </p:nvSpPr>
        <p:spPr>
          <a:xfrm>
            <a:off x="53352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8A70987-B554-4153-99E3-EADF099307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bnormally high production  the amount of fixed production of overheads allocated to each unit of production is decreased so that inventories are not measured above the cos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production overheads shall be assigned to each unit of production on the basis of actual use of production facility.</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rocess  result in more than one product produce simultaneously and cost of conversion  of each product are not separately identifiable, the cost shall be allocated  between the products on rational or  consistent basis  i.e. sale price or cost of production.</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products, scrap, or waste material are immaterial they shall be measured at NRV and their value be deducted from the cost of main produ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3" name=""/>
          <p:cNvSpPr/>
          <p:nvPr/>
        </p:nvSpPr>
        <p:spPr>
          <a:xfrm>
            <a:off x="533520" y="228600"/>
            <a:ext cx="82296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FD2D84D-B33A-4373-A437-ECB3162D3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ther costs:</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d in the cost of inventory only to the extent that they are incurred  in bringing the inventories to their present location  and condition.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erest:</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est and other borrowing cost shall not be included in the cost of inventories  unless  they meet  criteria for  recognition of interest  as component of cost.</a:t>
            </a:r>
            <a:endParaRPr b="0" lang="en-US" sz="1800" spc="-1" strike="noStrike">
              <a:solidFill>
                <a:srgbClr val="000000"/>
              </a:solidFill>
              <a:latin typeface="Arial"/>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clusion from the cost of inventories:</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Abnormal amount of wasted materials, labour or other production cost.</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Storage costs unless those cost necessary in production process </a:t>
            </a:r>
            <a:r>
              <a:rPr b="0" lang="en-US" sz="1800" spc="-1" strike="noStrike">
                <a:solidFill>
                  <a:srgbClr val="000000"/>
                </a:solidFill>
                <a:latin typeface="Arial"/>
              </a:rPr>
              <a:t>	</a:t>
            </a:r>
            <a:r>
              <a:rPr b="0" lang="en-US" sz="1800" spc="-1" strike="noStrike">
                <a:solidFill>
                  <a:srgbClr val="000000"/>
                </a:solidFill>
                <a:latin typeface="Arial"/>
              </a:rPr>
              <a:t>prior of further production stage.</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Administrative overheads that do not contribute to bringing the </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entory to the present location and condition</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a:t>
            </a:r>
            <a:r>
              <a:rPr b="0" lang="en-US" sz="1800" spc="-1" strike="noStrike">
                <a:solidFill>
                  <a:srgbClr val="000000"/>
                </a:solidFill>
                <a:latin typeface="Arial"/>
              </a:rPr>
              <a:t>	</a:t>
            </a:r>
            <a:r>
              <a:rPr b="0" lang="en-US" sz="1800" spc="-1" strike="noStrike">
                <a:solidFill>
                  <a:srgbClr val="000000"/>
                </a:solidFill>
                <a:latin typeface="Arial"/>
              </a:rPr>
              <a:t>Selling costs</a:t>
            </a:r>
            <a:endParaRPr b="0" lang="en-US" sz="1800" spc="-1" strike="noStrike">
              <a:solidFill>
                <a:srgbClr val="000000"/>
              </a:solidFill>
              <a:latin typeface="Arial"/>
            </a:endParaRPr>
          </a:p>
        </p:txBody>
      </p:sp>
      <p:sp>
        <p:nvSpPr>
          <p:cNvPr id="76" name=""/>
          <p:cNvSpPr/>
          <p:nvPr/>
        </p:nvSpPr>
        <p:spPr>
          <a:xfrm>
            <a:off x="53352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DF3DC39-AB04-4595-BA08-A570EB33AF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formula</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 project -  inventories are not inter changeable in respect of goods and service produce  and specific identified cost are allotted to specific project.  </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FO &amp; Weighted Average Cos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FO = First in First Out – items remaining in inventory  are those  most recently purchased or produced.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C  =  cost of similar items at the beginning and cost of similar items purchased or produced during the period. The average shall be calculated  on periodic basis on the basis of shipment arrived etc.</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ndard Costing is technique for measurement of cos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tails Method</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st of inventory is determined by reducing from the sale value of inventory, the appropriate percentage of gross margin.</a:t>
            </a:r>
            <a:endParaRPr b="0" lang="en-US" sz="1800" spc="-1" strike="noStrike">
              <a:solidFill>
                <a:srgbClr val="000000"/>
              </a:solidFill>
              <a:latin typeface="Arial"/>
            </a:endParaRPr>
          </a:p>
        </p:txBody>
      </p:sp>
      <p:sp>
        <p:nvSpPr>
          <p:cNvPr id="79" name=""/>
          <p:cNvSpPr/>
          <p:nvPr/>
        </p:nvSpPr>
        <p:spPr>
          <a:xfrm>
            <a:off x="533520" y="304920"/>
            <a:ext cx="8076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E9D15366-F6D8-4F58-B48A-6597E063BE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Net Realizable Value:</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written down to NRV item by item.</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relating to the same product line having similar purposes or end users and  are produced and marketed separately from other items of product line, shall be grouped together and written down to NRV an aggregate basis </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V should be on most reliable evidence at time of valuation .  Take into account purpose for valuation.</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 and supplies held for use in production of inventories shall not be written below the cost if FG in which they are incorporated are expected to be sold at or above cost.  Where decline in price of RM and estimated that cost  of FG will exceed NRV the value of RM be written down  to NRV which shall be replacement cost of RM</a:t>
            </a:r>
            <a:endParaRPr b="0" lang="en-US" sz="1800" spc="-1" strike="noStrike">
              <a:solidFill>
                <a:srgbClr val="000000"/>
              </a:solidFill>
              <a:latin typeface="Arial"/>
            </a:endParaRPr>
          </a:p>
        </p:txBody>
      </p:sp>
      <p:sp>
        <p:nvSpPr>
          <p:cNvPr id="82" name=""/>
          <p:cNvSpPr/>
          <p:nvPr/>
        </p:nvSpPr>
        <p:spPr>
          <a:xfrm>
            <a:off x="533520" y="228600"/>
            <a:ext cx="8076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D9BB873-93F2-4F06-A26E-A25229C5C1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5000"/>
          </a:bodyPr>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alue of Opening Inventory:</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st of inventory on day of commencement of business.</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of  inventory on close of immediate preceding previous year.</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inrup Sampatram Vs. CIT 24 ITR 285 (SC)]</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of method of valuation of inventory</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not be changed without reasonable causes.</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aluation of inventory in case of dissolution</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be valued at NRV – Real Value</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A firm Vs. CIT  - 189 ITR 285 (SC)]</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itional Provisions</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est &amp; other borrowings costs, which do not meet criteria for recognition of interest as a component of cost be included if it was inventory as on April 01,2015 and shall be included as cost of inventory till it is disposed off.</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unting policies adopted in measuring inventories including cost formula </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carrying amount of inventories </a:t>
            </a:r>
            <a:endParaRPr b="0" lang="en-US" sz="1800" spc="-1" strike="noStrike">
              <a:solidFill>
                <a:srgbClr val="000000"/>
              </a:solidFill>
              <a:latin typeface="Arial"/>
            </a:endParaRPr>
          </a:p>
        </p:txBody>
      </p:sp>
      <p:sp>
        <p:nvSpPr>
          <p:cNvPr id="85" name=""/>
          <p:cNvSpPr/>
          <p:nvPr/>
        </p:nvSpPr>
        <p:spPr>
          <a:xfrm>
            <a:off x="457200" y="228600"/>
            <a:ext cx="8153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CBD1C055-C183-4DB1-B331-A8A1FF4EDF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pplicability – applicable to only contractor and not builder</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struction Contrac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nstruction of an asset or combination of assets – interrelated or interdependent in terms of their design, technology and function  or their ultimate use or purpose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s rendering of services which are directly related to construction of asset e.g. project manager and architects – on percentage basi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nclude contract for destruction or restoration of asset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xed Price contra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ther fixed price contract or fixed rate per unit  of outpu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Cost plus contra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or is reimbursed for allowable or defined cost plus mark up</a:t>
            </a:r>
            <a:endParaRPr b="0" lang="en-US" sz="1800" spc="-1" strike="noStrike">
              <a:solidFill>
                <a:srgbClr val="000000"/>
              </a:solidFill>
              <a:latin typeface="Arial"/>
            </a:endParaRPr>
          </a:p>
        </p:txBody>
      </p:sp>
      <p:sp>
        <p:nvSpPr>
          <p:cNvPr id="88" name=""/>
          <p:cNvSpPr/>
          <p:nvPr/>
        </p:nvSpPr>
        <p:spPr>
          <a:xfrm>
            <a:off x="457200" y="304920"/>
            <a:ext cx="82296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II:   CONSTRUCTION CONTRAC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D40236E8-77AA-439E-B932-FDD837BCB7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788400" indent="-7884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is Standard shall be applied separately to each construction contract.</a:t>
            </a:r>
            <a:endParaRPr b="0" lang="en-US" sz="1800" spc="-1" strike="noStrike">
              <a:solidFill>
                <a:srgbClr val="000000"/>
              </a:solidFill>
              <a:latin typeface="Arial"/>
            </a:endParaRPr>
          </a:p>
          <a:p>
            <a:pPr marL="78840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u="sng">
                <a:solidFill>
                  <a:srgbClr val="000000"/>
                </a:solidFill>
                <a:uFillTx/>
                <a:latin typeface="Arial"/>
              </a:rPr>
              <a:t>Single asset</a:t>
            </a:r>
            <a:r>
              <a:rPr b="0" lang="en-US" sz="1800" spc="-1" strike="noStrike">
                <a:solidFill>
                  <a:srgbClr val="000000"/>
                </a:solidFill>
                <a:latin typeface="Arial"/>
              </a:rPr>
              <a:t> – bridge, dam, ship or tunnel, building  etc.</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0" lang="en-US" sz="1800" spc="-1" strike="noStrike" u="sng">
                <a:solidFill>
                  <a:srgbClr val="000000"/>
                </a:solidFill>
                <a:uFillTx/>
                <a:latin typeface="Arial"/>
              </a:rPr>
              <a:t>Number of assets (e.g. refineries &amp; other complex  Plant &amp;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achinery</a:t>
            </a:r>
            <a:r>
              <a:rPr b="0" lang="en-US" sz="1800" spc="-1" strike="noStrike">
                <a:solidFill>
                  <a:srgbClr val="000000"/>
                </a:solidFill>
                <a:latin typeface="Arial"/>
              </a:rPr>
              <a:t> - then,  each asset should be treated as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e  construction contract when:</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     separate proposals for each asset;</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each asset is subject to separate negotiation   and the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Costs or revenues of each asset can be identified.</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t>
            </a:r>
            <a:r>
              <a:rPr b="0" lang="en-US" sz="1800" spc="-1" strike="noStrike" u="sng">
                <a:solidFill>
                  <a:srgbClr val="000000"/>
                </a:solidFill>
                <a:uFillTx/>
                <a:latin typeface="Arial"/>
              </a:rPr>
              <a:t>Group  of contracts</a:t>
            </a:r>
            <a:r>
              <a:rPr b="0" lang="en-US" sz="1800" spc="-1" strike="noStrike">
                <a:solidFill>
                  <a:srgbClr val="000000"/>
                </a:solidFill>
                <a:latin typeface="Arial"/>
              </a:rPr>
              <a:t> either  with single or several customers - when</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he group of contracts negotiated as single package</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contracts are closely inter - related</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contracts are performed concurrently  or in continuous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quence.</a:t>
            </a:r>
            <a:endParaRPr b="0" lang="en-US" sz="1800" spc="-1" strike="noStrike">
              <a:solidFill>
                <a:srgbClr val="000000"/>
              </a:solidFill>
              <a:latin typeface="Arial"/>
            </a:endParaRPr>
          </a:p>
        </p:txBody>
      </p:sp>
      <p:sp>
        <p:nvSpPr>
          <p:cNvPr id="91" name=""/>
          <p:cNvSpPr/>
          <p:nvPr/>
        </p:nvSpPr>
        <p:spPr>
          <a:xfrm>
            <a:off x="457200" y="304920"/>
            <a:ext cx="8381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E36259C-D306-4078-89FB-152C366B9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711360" indent="-711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ntracts provides for construction of </a:t>
            </a:r>
            <a:r>
              <a:rPr b="0" lang="en-US" sz="1800" spc="-1" strike="noStrike" u="sng">
                <a:solidFill>
                  <a:srgbClr val="000000"/>
                </a:solidFill>
                <a:uFillTx/>
                <a:latin typeface="Arial"/>
              </a:rPr>
              <a:t>additional asset</a:t>
            </a:r>
            <a:r>
              <a:rPr b="0" lang="en-US" sz="1800" spc="-1" strike="noStrike">
                <a:solidFill>
                  <a:srgbClr val="000000"/>
                </a:solidFill>
                <a:latin typeface="Arial"/>
              </a:rPr>
              <a:t> at the</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on of the customer.  The construction of additional  asset be</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ated as  separate construction contract, when </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the asset differs in design, technology or function</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price of asset is negotiated without regards to original</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 price.</a:t>
            </a:r>
            <a:endParaRPr b="0" lang="en-US" sz="1800" spc="-1" strike="noStrike">
              <a:solidFill>
                <a:srgbClr val="000000"/>
              </a:solidFill>
              <a:latin typeface="Arial"/>
            </a:endParaRPr>
          </a:p>
          <a:p>
            <a:pPr marL="7113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1360" indent="-711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act Revenue:</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o be recognized when there is reasonable certainty of its ultimate </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ion Vs. AS 2 – Probable &amp; reliably measured.</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Contract revenue shall comprise of:</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itial  amount of revenue agreed in contract including retention </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variations in contract work, claims and incentives if it is payable</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they  will result in revenue and are capable of being    </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sured.</a:t>
            </a:r>
            <a:endParaRPr b="0" lang="en-US" sz="1800" spc="-1" strike="noStrike">
              <a:solidFill>
                <a:srgbClr val="000000"/>
              </a:solidFill>
              <a:latin typeface="Arial"/>
            </a:endParaRPr>
          </a:p>
        </p:txBody>
      </p:sp>
      <p:sp>
        <p:nvSpPr>
          <p:cNvPr id="93" name="PlaceHolder 2"/>
          <p:cNvSpPr>
            <a:spLocks noGrp="1"/>
          </p:cNvSpPr>
          <p:nvPr>
            <p:ph type="title"/>
          </p:nvPr>
        </p:nvSpPr>
        <p:spPr>
          <a:xfrm>
            <a:off x="38088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028CF32-49EF-44B9-A404-0BF2E17D31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iii)    If contract revenue is already recognized  as income &amp; subsequently </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ten off in the books as uncollectible shall recognized as an</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ense – S. 36(1)(vii) – second provisio</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Contract cost comprises of</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cost  relate directly to specific contract.</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Cost attributable to contract</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Other costs specifically chargeable to customers &amp;</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Allocated borrowing costs.</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sts be reduced by incidental income,( sale of surplus materials and dispose off plant and equipment at the end of the contract), not being in the nature dividend  or capital gains, that is not included in contract revenue.</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T Vs.  Bokaro Steel  Ltd  236 ITR 315 (SC)]   </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18AFC38E-D70C-4EF6-A491-0BA0E7AC0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145 – Method of Accounting:</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provisions of Sub S. (2) </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to  Income chargeable under the head “Profits &amp; Gains of Business or Profession” or “Income from other source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or Mercantile system.</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 S (2) provides for notification by Cent. Govt. in respect of “Income Computation &amp; Disclosure Standards” (ICDS). For any class of assessee or  in respect of any class of income.</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 S. (3) provides if AO is not satisfied  about correctness or completeness of the accounts or method of accounting under sub s. (1)  not followed regularly or  income has not been computed as per ICDS then  the AO has right to make assessment u/s. 144 of the Act.</a:t>
            </a:r>
            <a:endParaRPr b="0" lang="en-US" sz="1800" spc="-1" strike="noStrike">
              <a:solidFill>
                <a:srgbClr val="000000"/>
              </a:solidFill>
              <a:latin typeface="Arial"/>
            </a:endParaRPr>
          </a:p>
          <a:p>
            <a:pPr marL="343080" indent="0" algn="just">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57200" y="304920"/>
            <a:ext cx="82296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CK GROU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tion 145)</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15B3827B-5E70-43AB-A881-DC79281637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 construction income</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ticorian Alkali Chemicals &amp; Fertilizers Ltd. Vs. CIT [227 ITR 172 (SC)]</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cognition of contract cost</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not attributed or allocable be excluded</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ttributable to contract from date of  securing the contract to final competition of  contact</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incurred for securing contract are included if they can be identified and probable that the contract can be obtained.</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incurred in securing contract are recognized as an expense in the period of which they are incurred .  They are not included in contract cost when  contract is obtained in a subsequent period.</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Contract cost  recoverable from customer in future to be classified as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progress </a:t>
            </a:r>
            <a:endParaRPr b="0" lang="en-US" sz="1800" spc="-1" strike="noStrike">
              <a:solidFill>
                <a:srgbClr val="000000"/>
              </a:solidFill>
              <a:latin typeface="Arial"/>
            </a:endParaRPr>
          </a:p>
        </p:txBody>
      </p:sp>
      <p:sp>
        <p:nvSpPr>
          <p:cNvPr id="98" name=""/>
          <p:cNvSpPr/>
          <p:nvPr/>
        </p:nvSpPr>
        <p:spPr>
          <a:xfrm>
            <a:off x="457200" y="304920"/>
            <a:ext cx="82296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57200" y="304920"/>
            <a:ext cx="8381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69F8F4A-3BDB-4E09-99B1-F13D53D57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cognition of Contract Revenue &amp; Expense</a:t>
            </a:r>
            <a:endParaRPr b="0" lang="en-US" sz="1800" spc="-1" strike="noStrike">
              <a:solidFill>
                <a:srgbClr val="000000"/>
              </a:solidFill>
              <a:latin typeface="Arial"/>
            </a:endParaRPr>
          </a:p>
          <a:p>
            <a:pPr lvl="1" marL="838080" indent="-380880" algn="just">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ference to the stage of completion of the contract i.e.  percentage of completion method.</a:t>
            </a:r>
            <a:endParaRPr b="0" lang="en-US" sz="1800" spc="-1" strike="noStrike">
              <a:solidFill>
                <a:srgbClr val="000000"/>
              </a:solidFill>
              <a:latin typeface="Arial"/>
            </a:endParaRPr>
          </a:p>
          <a:p>
            <a:pPr lvl="1" marL="838080" indent="-380880" algn="just">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of completion be determined with reference to</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 of costs  bear to estimated total contract costs; or</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s of work performed; or</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of physical proportion of the contract work</a:t>
            </a:r>
            <a:endParaRPr b="0" lang="en-US" sz="1800" spc="-1" strike="noStrike">
              <a:solidFill>
                <a:srgbClr val="000000"/>
              </a:solidFill>
              <a:latin typeface="Arial"/>
            </a:endParaRPr>
          </a:p>
          <a:p>
            <a:pPr lvl="1" marL="838080" indent="-380880" algn="just">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ercentage of completion method,  the following costs are excluded:</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cost relate to future activity and </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made to sub contractors in advance of work to be performed.</a:t>
            </a:r>
            <a:endParaRPr b="0" lang="en-US" sz="1800" spc="-1" strike="noStrike">
              <a:solidFill>
                <a:srgbClr val="000000"/>
              </a:solidFill>
              <a:latin typeface="Arial"/>
            </a:endParaRPr>
          </a:p>
          <a:p>
            <a:pPr lvl="1" marL="838080" indent="-380880" algn="just">
              <a:lnSpc>
                <a:spcPct val="9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outcome of contract cannot be estimated reliably contract revenue is recognized to the extend of costs incurred.  The early stage of contract shall not be  extended beyond 25% of the stage of comple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16FF7474-E36B-4CF4-B0DE-B90129A3D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763920" indent="-763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ility  to presumptive basis – S. 44AD ? </a:t>
            </a:r>
            <a:endParaRPr b="0" lang="en-US" sz="1800" spc="-1" strike="noStrike">
              <a:solidFill>
                <a:srgbClr val="000000"/>
              </a:solidFill>
              <a:latin typeface="Arial"/>
            </a:endParaRPr>
          </a:p>
          <a:p>
            <a:pPr marL="763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63920" indent="-763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in estimate</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63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centage of completion method is applied on cumulative basis.  So, when there is change in estimates, the changed estimates shall be used in determination of amount of revenue and expenses  in the period of change and subsequent periods.</a:t>
            </a:r>
            <a:endParaRPr b="0" lang="en-US" sz="1800" spc="-1" strike="noStrike">
              <a:solidFill>
                <a:srgbClr val="000000"/>
              </a:solidFill>
              <a:latin typeface="Arial"/>
            </a:endParaRPr>
          </a:p>
          <a:p>
            <a:pPr marL="763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63920" indent="-76392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provision for expected loss</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35 of  AS 7</a:t>
            </a:r>
            <a:endParaRPr b="0" lang="en-US" sz="1800" spc="-1" strike="noStrike">
              <a:solidFill>
                <a:srgbClr val="000000"/>
              </a:solidFill>
              <a:latin typeface="Arial"/>
            </a:endParaRPr>
          </a:p>
          <a:p>
            <a:pPr marL="763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63920" indent="-76392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Method used to determine the stage of completion</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The amount of advanced received</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The amount of retentions.</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The amount of contract revenue  / cost incurred and profit </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gnized (less recognized loss) upto reporting date</a:t>
            </a:r>
            <a:endParaRPr b="0" lang="en-US" sz="1800" spc="-1" strike="noStrike">
              <a:solidFill>
                <a:srgbClr val="000000"/>
              </a:solidFill>
              <a:latin typeface="Arial"/>
            </a:endParaRPr>
          </a:p>
        </p:txBody>
      </p:sp>
      <p:sp>
        <p:nvSpPr>
          <p:cNvPr id="103" name="PlaceHolder 2"/>
          <p:cNvSpPr>
            <a:spLocks noGrp="1"/>
          </p:cNvSpPr>
          <p:nvPr>
            <p:ph type="title"/>
          </p:nvPr>
        </p:nvSpPr>
        <p:spPr>
          <a:xfrm>
            <a:off x="457200" y="30456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C5C4A9F6-83A2-4390-85A7-F60ECE5BAC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804600" indent="-80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Scope</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 recognition in the course of ordinary activities:</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Sale of goods</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Rendering of Services</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Use by others of  person’s resources yielding interest, royalties or     </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vidends.</a:t>
            </a:r>
            <a:endParaRPr b="0" lang="en-US" sz="1800" spc="-1" strike="noStrike">
              <a:solidFill>
                <a:srgbClr val="000000"/>
              </a:solidFill>
              <a:latin typeface="Arial"/>
            </a:endParaRPr>
          </a:p>
          <a:p>
            <a:pPr marL="804600" indent="-80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venue</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ss inflow of cash, receivables or other consideration.  </a:t>
            </a:r>
            <a:endParaRPr b="0" lang="en-US" sz="1800" spc="-1" strike="noStrike">
              <a:solidFill>
                <a:srgbClr val="000000"/>
              </a:solidFill>
              <a:latin typeface="Arial"/>
            </a:endParaRPr>
          </a:p>
          <a:p>
            <a:pPr marL="80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gency business the revenue is the amount of commission and not   gross inflow of cash, receivable or other consideration.</a:t>
            </a:r>
            <a:endParaRPr b="0" lang="en-US" sz="1800" spc="-1" strike="noStrike">
              <a:solidFill>
                <a:srgbClr val="000000"/>
              </a:solidFill>
              <a:latin typeface="Arial"/>
            </a:endParaRPr>
          </a:p>
          <a:p>
            <a:pPr marL="80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04600" indent="-8046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er As 9 Revenue could be recognized if there is certainty in ultimate collection and could be measured reliably. In ICDS reliability is absent, because of reasonable certainty.</a:t>
            </a:r>
            <a:endParaRPr b="0" lang="en-US" sz="1800" spc="-1" strike="noStrike">
              <a:solidFill>
                <a:srgbClr val="000000"/>
              </a:solidFill>
              <a:latin typeface="Arial"/>
            </a:endParaRPr>
          </a:p>
        </p:txBody>
      </p:sp>
      <p:sp>
        <p:nvSpPr>
          <p:cNvPr id="106" name=""/>
          <p:cNvSpPr/>
          <p:nvPr/>
        </p:nvSpPr>
        <p:spPr>
          <a:xfrm>
            <a:off x="457200" y="228600"/>
            <a:ext cx="8305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V : REVENUE RECOGN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28D4959-0379-4435-B541-A5764C146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ale of goods</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eller of goods transfers to the buyer the property in goods for a price with significant risks  and reward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all be recognized when  there is reasonable certainty of its ultimate collection.</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ing claim for escalation of price and export incentives, revenue  recognition is postponed to the extent of uncertainty involved.</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ndering Service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ercentage of completion method i.e. on the basis of performance.</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tage can not be extended beyond 25% of stage of completion as per  para 6 of ICDS- IV as ICDS – III would apply. </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service contract method is not recognized in this ICDS</a:t>
            </a:r>
            <a:endParaRPr b="0" lang="en-US" sz="18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FD207495-9CBE-4ADA-8CE8-4C31A8D32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treatment of Tangible  fixed  asset being land, building, machinery plant or furniture held with intention being  used for the purpose of producing or providing goods or services and is not held for sale in normal course of business.</a:t>
            </a:r>
            <a:endParaRPr b="0" lang="en-US" sz="1800" spc="-1" strike="noStrike">
              <a:solidFill>
                <a:srgbClr val="000000"/>
              </a:solidFill>
              <a:latin typeface="Arial"/>
            </a:endParaRPr>
          </a:p>
          <a:p>
            <a:pPr marL="3430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pplicable to intangible asset like AS-10</a:t>
            </a:r>
            <a:endParaRPr b="0" lang="en-US" sz="1800" spc="-1" strike="noStrike">
              <a:solidFill>
                <a:srgbClr val="000000"/>
              </a:solidFill>
              <a:latin typeface="Arial"/>
            </a:endParaRPr>
          </a:p>
          <a:p>
            <a:pPr marL="3430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 value of an asset is the amount for which that asset could be exchanged between knowledgeable &amp; willing parties in an arm’s length transactions.</a:t>
            </a:r>
            <a:endParaRPr b="0" lang="en-US" sz="1800" spc="-1" strike="noStrike">
              <a:solidFill>
                <a:srgbClr val="000000"/>
              </a:solidFill>
              <a:latin typeface="Arial"/>
            </a:endParaRPr>
          </a:p>
          <a:p>
            <a:pPr marL="3430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nd by servicing equipments and machinery spare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nd by equipment and servicing equipment  to be capitalized .  When spares used in connection with an item of tangible fixed asset and their use is expected to be irregular,  they shall be capitalized – Para 1(e) of ICDS II</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V TANGIBLE FIXED ASSE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30EC1C9-1FAC-4807-8A30-6BA60E8F7B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Actual Cost:</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ises of purchase price, import duties and other taxes (excluding those subsequently recoverable) and any directly attributable expenditure on making the asset ready for its intended use. Any trade discounts and  rebates be deducted in arriving the actual cost.</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a tangible fixed asset may undergo changes subsequent to its acquisition or construction on account of:</a:t>
            </a:r>
            <a:endParaRPr b="0" lang="en-US" sz="1800" spc="-1" strike="noStrike">
              <a:solidFill>
                <a:srgbClr val="000000"/>
              </a:solidFill>
              <a:latin typeface="Arial"/>
            </a:endParaRPr>
          </a:p>
          <a:p>
            <a:pPr marL="812880"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812880"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ice adjustment, changes in duties or similar factors or</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change fluctuation</a:t>
            </a:r>
            <a:r>
              <a:rPr b="0" lang="en-US" sz="2800" spc="-1" strike="noStrike">
                <a:solidFill>
                  <a:srgbClr val="000000"/>
                </a:solidFill>
                <a:latin typeface="Arial"/>
              </a:rPr>
              <a:t> </a:t>
            </a:r>
            <a:r>
              <a:rPr b="0" lang="en-US" sz="1800" spc="-1" strike="noStrike">
                <a:solidFill>
                  <a:srgbClr val="000000"/>
                </a:solidFill>
                <a:latin typeface="Arial"/>
              </a:rPr>
              <a:t>– i.e. S. 43A.</a:t>
            </a:r>
            <a:endParaRPr b="0" lang="en-US" sz="1800" spc="-1" strike="noStrike">
              <a:solidFill>
                <a:srgbClr val="000000"/>
              </a:solidFill>
              <a:latin typeface="Arial"/>
            </a:endParaRPr>
          </a:p>
          <a:p>
            <a:pPr marL="812880"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r>
              <a:rPr b="0" lang="en-US" sz="1800" spc="-1" strike="noStrike">
                <a:solidFill>
                  <a:srgbClr val="000000"/>
                </a:solidFill>
                <a:latin typeface="Arial"/>
              </a:rPr>
              <a:t>	</a:t>
            </a:r>
            <a:r>
              <a:rPr b="0" lang="en-US" sz="1800" spc="-1" strike="noStrike">
                <a:solidFill>
                  <a:srgbClr val="000000"/>
                </a:solidFill>
                <a:latin typeface="Arial"/>
              </a:rPr>
              <a:t>Administration &amp; other general overhead expenses are to be excluded. if they are  not related  to a tangible fixed asset.   Expenses specifically attributable to construction of a project or to the acquisition of  tangible fixed asset or brining it to its working conditions shall be included.</a:t>
            </a:r>
            <a:endParaRPr b="0" lang="en-US" sz="1800" spc="-1" strike="noStrike">
              <a:solidFill>
                <a:srgbClr val="000000"/>
              </a:solidFill>
              <a:latin typeface="Arial"/>
            </a:endParaRPr>
          </a:p>
        </p:txBody>
      </p:sp>
      <p:sp>
        <p:nvSpPr>
          <p:cNvPr id="113"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C313EBD6-7F7D-41EB-80D2-89CF45855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diture on start up &amp; commissioning of project including expenditure on test run and experimental production shall be capitalized. No capitalization after plant has begun commercial production – proviso to S. 36(1)(iii)</a:t>
            </a:r>
            <a:endParaRPr b="0" lang="en-US" sz="1600" spc="-1" strike="noStrike">
              <a:solidFill>
                <a:srgbClr val="000000"/>
              </a:solidFill>
              <a:latin typeface="Arial"/>
            </a:endParaRPr>
          </a:p>
          <a:p>
            <a:pPr marL="812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elf constructed Tangible Fixed Asset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nstruction that relate directly to the specific  tangible fixed asset and cost that are attributable to the construction activity in general and can be allocated to the specific tangible fixed asset shall be included in actual cost.  An internal profits shall be eliminated in arriving at such cost.</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 monetary consideration:</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angible fixed asset acquired in exchange for  another asset, the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ir value of the tangible fixed asset so acquired shall be its actual</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Vs. AS 10 – Value of assets given up / shares or securities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sued or FV of assets acquired, whichever is more clearly evident.</a:t>
            </a:r>
            <a:endParaRPr b="0" lang="en-US" sz="1800" spc="-1" strike="noStrike">
              <a:solidFill>
                <a:srgbClr val="000000"/>
              </a:solidFill>
              <a:latin typeface="Arial"/>
            </a:endParaRPr>
          </a:p>
          <a:p>
            <a:pPr marL="812880" indent="0" algn="just">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24F6830-23BE-4ABA-9B52-10204645A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When a tangible fixed asset acquired in exchange for shares or other securities, the fair value of tangible fixed assets acquired.</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mprovements &amp; Repair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hat increases the future benefits from beyond previously assessed standard of  performance is added to the actual cost.</a:t>
            </a:r>
            <a:endParaRPr b="0" lang="en-US" sz="1800" spc="-1" strike="noStrike">
              <a:solidFill>
                <a:srgbClr val="000000"/>
              </a:solidFill>
              <a:latin typeface="Arial"/>
            </a:endParaRPr>
          </a:p>
          <a:p>
            <a:pPr marL="8128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n addition of extension, which has a separate identity and is capable used after the existing tangible fixed asset is disposed of shall be treated as separate  asset e.g.  Aircraft and its engine.</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ointly owned:</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 person owns tangible fixed assets jointly with others, the proportion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cost,  accumulated depreciation and  WDV is grouped together with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fully owned tangible fixed assets.</a:t>
            </a:r>
            <a:endParaRPr b="0" lang="en-US" sz="1800" spc="-1" strike="noStrike">
              <a:solidFill>
                <a:srgbClr val="000000"/>
              </a:solidFill>
              <a:latin typeface="Arial"/>
            </a:endParaRPr>
          </a:p>
        </p:txBody>
      </p:sp>
      <p:sp>
        <p:nvSpPr>
          <p:cNvPr id="119"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C4C48AD-BBBB-413F-978E-E8CBB244A9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solidated price:</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several assets are purchased for a consolidated price the consideration shall be apportioned to the various assets on a fair basis</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preciation</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be computed in accordance with the provision of the Act i.e. S. 32 r.w.r. 5(1A).</a:t>
            </a:r>
            <a:endParaRPr b="0" lang="en-US" sz="1800" spc="-1" strike="noStrike">
              <a:solidFill>
                <a:srgbClr val="000000"/>
              </a:solidFill>
              <a:latin typeface="Arial"/>
            </a:endParaRPr>
          </a:p>
          <a:p>
            <a:pPr marL="696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fer:</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fer of tangible fixed asset shall be computed in accordance with the provisions of the Act. Capital Gains – short term / long term.</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isclosures:</a:t>
            </a:r>
            <a:endParaRPr b="0" lang="en-US" sz="1800" spc="-1" strike="noStrike">
              <a:solidFill>
                <a:srgbClr val="000000"/>
              </a:solidFill>
              <a:latin typeface="Arial"/>
            </a:endParaRPr>
          </a:p>
          <a:p>
            <a:pPr marL="69696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 Description of asset or block of assets</a:t>
            </a:r>
            <a:endParaRPr b="0" lang="en-US" sz="1800" spc="-1" strike="noStrike">
              <a:solidFill>
                <a:srgbClr val="000000"/>
              </a:solidFill>
              <a:latin typeface="Arial"/>
            </a:endParaRPr>
          </a:p>
          <a:p>
            <a:pPr marL="69696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Rate of depreciation</a:t>
            </a:r>
            <a:endParaRPr b="0" lang="en-US" sz="1800" spc="-1" strike="noStrike">
              <a:solidFill>
                <a:srgbClr val="000000"/>
              </a:solidFill>
              <a:latin typeface="Arial"/>
            </a:endParaRPr>
          </a:p>
          <a:p>
            <a:pPr marL="69696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Actual cost or WDV</a:t>
            </a:r>
            <a:endParaRPr b="0" lang="en-US" sz="1800" spc="-1" strike="noStrike">
              <a:solidFill>
                <a:srgbClr val="000000"/>
              </a:solidFill>
              <a:latin typeface="Arial"/>
            </a:endParaRPr>
          </a:p>
        </p:txBody>
      </p:sp>
      <p:sp>
        <p:nvSpPr>
          <p:cNvPr id="122"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3E7ECB4-1AE9-4A72-BFC9-71B3D1387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No. SO 892(E) dt. March 31,2015 notified Ten IC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per supersession of notification no. S.069 (E) dt. January 25,1996  had notified Two Accounting Standards  viz. (i) Disclosure of Accounting Policies  &amp; (ii) Prior Period &amp; Extra Ordinary Items and Changes in Accounting Policies. -  now withdraw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DS are in force from Asst. yr. 2016/17 i.e. from accounting year April 01,2015.</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assessee who maintains books of account on mercantile basis  for “Profits &amp; Gains of Business or Profession”  or “Income from other sourc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only for computation of total income and not for maintaining books of  accou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conflict  the Act will prevail over ICD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to be made.</a:t>
            </a:r>
            <a:endParaRPr b="0" lang="en-US" sz="2000" spc="-1" strike="noStrike">
              <a:solidFill>
                <a:srgbClr val="000000"/>
              </a:solidFill>
              <a:latin typeface="Arial"/>
            </a:endParaRPr>
          </a:p>
        </p:txBody>
      </p:sp>
      <p:sp>
        <p:nvSpPr>
          <p:cNvPr id="49" name=""/>
          <p:cNvSpPr/>
          <p:nvPr/>
        </p:nvSpPr>
        <p:spPr>
          <a:xfrm>
            <a:off x="53352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BCD9305E-BF04-4855-B7DA-5DFAD92757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Additions, deductions during the year with dates, date put to use</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   Adjustment on account of CENVAT, exchange currency or subsidy or </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nt or reimbursement.</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   Depreciation allowable</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i)   WDV at the end of the year.</a:t>
            </a:r>
            <a:endParaRPr b="0" lang="en-US" sz="1800" spc="-1" strike="noStrike">
              <a:solidFill>
                <a:srgbClr val="000000"/>
              </a:solidFill>
              <a:latin typeface="Arial"/>
            </a:endParaRPr>
          </a:p>
          <a:p>
            <a:pPr marL="343080" indent="0">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6891CD3-1913-4F95-8F14-43905E5CDD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eals with:</a:t>
            </a:r>
            <a:endParaRPr b="0" lang="en-US" sz="1800" spc="-1" strike="noStrike">
              <a:solidFill>
                <a:srgbClr val="000000"/>
              </a:solidFill>
              <a:latin typeface="Arial"/>
            </a:endParaRPr>
          </a:p>
          <a:p>
            <a:pPr lvl="1" marL="1145160" indent="-6969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in foreign currencies;</a:t>
            </a:r>
            <a:endParaRPr b="0" lang="en-US" sz="1800" spc="-1" strike="noStrike">
              <a:solidFill>
                <a:srgbClr val="000000"/>
              </a:solidFill>
              <a:latin typeface="Arial"/>
            </a:endParaRPr>
          </a:p>
          <a:p>
            <a:pPr lvl="1" marL="1145160" indent="-6969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ng the FS of foreign operations</a:t>
            </a:r>
            <a:endParaRPr b="0" lang="en-US" sz="1800" spc="-1" strike="noStrike">
              <a:solidFill>
                <a:srgbClr val="000000"/>
              </a:solidFill>
              <a:latin typeface="Arial"/>
            </a:endParaRPr>
          </a:p>
          <a:p>
            <a:pPr lvl="1" marL="1145160" indent="-6969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transactions in the nature of forward exchange contacts.</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actions in foreign currencies  - Initial Recognition</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cognition in the reporting currency by applying to the foreign currency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the currency rate between the reporting currency &amp; foreign currency at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e of the transaction.  An average rate of week or month may be  used,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ustom Act notifies monthly rate. If exchange rate fluctuate significantly, the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rate at the date of transaction.</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version at last date of previous year</a:t>
            </a:r>
            <a:r>
              <a:rPr b="0" lang="en-US" sz="1800" spc="-1" strike="noStrike">
                <a:solidFill>
                  <a:srgbClr val="000000"/>
                </a:solidFill>
                <a:latin typeface="Arial"/>
              </a:rPr>
              <a:t>:</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monetary items  including  EEFC A/c. ( cash / Receivable / </a:t>
            </a:r>
            <a:endParaRPr b="0" lang="en-US" sz="1800" spc="-1" strike="noStrike">
              <a:solidFill>
                <a:srgbClr val="000000"/>
              </a:solidFill>
              <a:latin typeface="Arial"/>
            </a:endParaRPr>
          </a:p>
          <a:p>
            <a:pPr marL="796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able)  be converted into reporting currency by</a:t>
            </a:r>
            <a:r>
              <a:rPr b="0" lang="en-US" sz="1600" spc="-1" strike="noStrike">
                <a:solidFill>
                  <a:srgbClr val="000000"/>
                </a:solidFill>
                <a:latin typeface="Arial"/>
              </a:rPr>
              <a:t> applying closing rate.</a:t>
            </a:r>
            <a:endParaRPr b="0" lang="en-US" sz="1600" spc="-1" strike="noStrike">
              <a:solidFill>
                <a:srgbClr val="000000"/>
              </a:solidFill>
              <a:latin typeface="Arial"/>
            </a:endParaRPr>
          </a:p>
          <a:p>
            <a:pPr marL="796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Vs Woodward Governor India Pvt. Ltd. – 312 ITR 254 (SC)]</a:t>
            </a:r>
            <a:endParaRPr b="0" lang="en-US" sz="1600" spc="-1" strike="noStrike">
              <a:solidFill>
                <a:srgbClr val="000000"/>
              </a:solidFill>
              <a:latin typeface="Arial"/>
            </a:endParaRPr>
          </a:p>
          <a:p>
            <a:pPr marL="796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8"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VI – EFFECTS TO CHANGES IN  FOREIGN EXCHANGE RAT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F1679C2-185E-4F2A-A6C3-022415C449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 – monetary item and its liability at last day of  previous year:</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 be recognized at the date of transaction.</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which are carried  at FV at the date of transaction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cognition, conversion, interest and recognition of exchange difference shall be </a:t>
            </a:r>
            <a:r>
              <a:rPr b="0" lang="en-US" sz="1800" spc="-1" strike="noStrike">
                <a:solidFill>
                  <a:srgbClr val="000000"/>
                </a:solidFill>
                <a:latin typeface="Arial"/>
              </a:rPr>
              <a:t>	</a:t>
            </a:r>
            <a:r>
              <a:rPr b="0" lang="en-US" sz="1800" spc="-1" strike="noStrike">
                <a:solidFill>
                  <a:srgbClr val="000000"/>
                </a:solidFill>
                <a:latin typeface="Arial"/>
              </a:rPr>
              <a:t>subject to S. 43A   &amp; Rule 115 of  the Rules, and not to be recognize as income or expense.</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eign Operations</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l and non – integral.</a:t>
            </a:r>
            <a:endParaRPr b="0" lang="en-US" sz="1800" spc="-1" strike="noStrike">
              <a:solidFill>
                <a:srgbClr val="000000"/>
              </a:solidFill>
              <a:latin typeface="Arial"/>
            </a:endParaRPr>
          </a:p>
          <a:p>
            <a:pPr marL="812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 integral foreign operation</a:t>
            </a:r>
            <a:r>
              <a:rPr b="0" i="1" lang="en-US" sz="1800" spc="-1" strike="noStrike" u="sng">
                <a:solidFill>
                  <a:srgbClr val="000000"/>
                </a:solidFill>
                <a:uFillTx/>
                <a:latin typeface="Arial"/>
              </a:rPr>
              <a:t>: Indications:</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gnificant operation with the person than foreign operation’s activities.</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degree of autonomy</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of foreign operation are  financed mainly from its own operation</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38B2D99-27E5-4374-B5A2-71B73EBD66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st of material, labour etc of foreign operation are settled  in local currency.</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Foreign operations sales are mainly in currencies other than Indian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cy.</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Cash flows insulated from  day to day from foreign operation.</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price of foreign operation’s product is determined by local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etition or local Government regulation.</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startAt="8"/>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local sales market in foreign operation</a:t>
            </a:r>
            <a:endParaRPr b="0" lang="en-US" sz="1800" spc="-1" strike="noStrike">
              <a:solidFill>
                <a:srgbClr val="000000"/>
              </a:solidFill>
              <a:latin typeface="Arial"/>
            </a:endParaRPr>
          </a:p>
          <a:p>
            <a:pPr lvl="1" marL="1168560" indent="0" algn="just">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nancial statement of non integral foreign operation:</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mp; Liabilities, both monetary and non monetary  shall be translated at closing rate</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amp; expense shall be translated at exchange  rate at the date of transactions and </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resulting exchange difference shall be recognized  as income or expense.</a:t>
            </a:r>
            <a:endParaRPr b="0" lang="en-US" sz="1800" spc="-1" strike="noStrike">
              <a:solidFill>
                <a:srgbClr val="000000"/>
              </a:solidFill>
              <a:latin typeface="Arial"/>
            </a:endParaRPr>
          </a:p>
          <a:p>
            <a:pPr marL="812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E5A686A8-6F84-4E04-B262-C0CB9AB07B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ndard is applicable from asst. yr 2016/17, hence. Opening balance in “Foreign Currency Translation Reserve Account” would remain untouched.</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s  per AS 11, all exchange difference shall be accumulated in 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eign currency translation reserve until the disposal of the net investment – Para 15 of AS 11</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above, transactions and recognition of exchange difference as referred to S. 43A or Rule 115 of the Rules to be carried out as per that section or Rul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in classification of foreign operation</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pply from the date of the change of classificatio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the way in which a foreign operation is financed and operates may lead to change in operatio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8BAD5438-1895-48ED-B660-816796A3AF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ward  Exchange Contract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r discount at the inception of  exchange contract be amortized as expense or income over the life of contrac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hange differences on such contract be recognized as income or expense in which exchange rates change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 or loss arising on cancellation or renewal be recognized as income or expense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ll not apply to contract intended for trading or speculation or hedge, the foreign currency risk of firm commitment or highly probable  transactions. In such case premium, discount or exchange difference on contract be recognized  at the time of settlemen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ettled contracts be translated at the exchange rate at the end of the yea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D1297447-0126-4A51-9C1D-4941BE236E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finition:</a:t>
            </a: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vernment” refers to Central, State, agencies and similar bodies, whether local, National or Internatio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vernment grants” – assisted by Govt. in cash or Kind  to a person for past or future compliance  with certain conditions.  They exclude those forms of Govt. assistance which can not have a value and transactions with Govt. in normal course of  busines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rants  some time called as  subsidies, cash incentives, duty draw backs, waiver, concession, reimbursement etc.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oes not deal with</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t. assistance other than in the form of Govt. grants an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t. participation in the ownership of the enterpris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cognitio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uld not be recognized until there is reasonable assurance (i) the person shall comply with the conditions and (ii) grants shall be received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not be postponed beyond the date of actual receipts – controversy </a:t>
            </a:r>
            <a:endParaRPr b="0" lang="en-US" sz="1800" spc="-1" strike="noStrike">
              <a:solidFill>
                <a:srgbClr val="000000"/>
              </a:solidFill>
              <a:latin typeface="Arial"/>
            </a:endParaRPr>
          </a:p>
        </p:txBody>
      </p:sp>
      <p:sp>
        <p:nvSpPr>
          <p:cNvPr id="141" name=""/>
          <p:cNvSpPr/>
          <p:nvPr/>
        </p:nvSpPr>
        <p:spPr>
          <a:xfrm>
            <a:off x="457200" y="228600"/>
            <a:ext cx="830592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VII: GOVERNMENT GRA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3ADF32E-9990-428E-834E-1CDF85DDF8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pital Approach Vs. Revenue Approach</a:t>
            </a:r>
            <a:endParaRPr b="0" lang="en-US" sz="1800" spc="-1" strike="noStrike">
              <a:solidFill>
                <a:srgbClr val="000000"/>
              </a:solidFill>
              <a:latin typeface="Arial"/>
            </a:endParaRPr>
          </a:p>
          <a:p>
            <a:pPr marL="8128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oes not recognize</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 grants in the nature of promoters contribution (i.e. on the basis of total investment) – credited directly to shareholders fund.</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s.</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grants are given for encouraging specific industries or starting in backward area – capital receipt.</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hney Steel &amp; Press Works Ltd. &amp; Others Vs. CIT [228 ITR 253(SC)]</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T Vs. Ponni Sugar &amp; Chemicals Ltd. [306 ITR 392 (SC)]</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would prevail over ICDS.</a:t>
            </a:r>
            <a:endParaRPr b="0" lang="en-US" sz="1800" spc="-1" strike="noStrike">
              <a:solidFill>
                <a:srgbClr val="000000"/>
              </a:solidFill>
              <a:latin typeface="Arial"/>
            </a:endParaRPr>
          </a:p>
        </p:txBody>
      </p:sp>
      <p:sp>
        <p:nvSpPr>
          <p:cNvPr id="144" name=""/>
          <p:cNvSpPr/>
          <p:nvPr/>
        </p:nvSpPr>
        <p:spPr>
          <a:xfrm>
            <a:off x="45720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F49B66B5-9059-432D-B773-163B1AAEB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eatmen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s to depreciable asset shall be deducted  from the actual cost or WDV.</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s to non depreciable asset  requiring fulfillment  of certain obligations  shall be recognized as income over the same period over which the cost of meeting such obligations is charged to income.</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s to such nature that it cannot be directly relatable to the specific asset acquired, so much amount bears to the total Govt. grants  the same proportion as such bears to all the assets  in respect of which Govt. grant is so received, be deducted from the actual cost of the asset or WD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228600"/>
            <a:ext cx="807696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B255E99D-EE63-4DA2-A610-D831F1FB1A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Arial"/>
              </a:rPr>
              <a:t>Receivable as compensation for expenses  or losses be recognized  as income.</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Govt. grants be recognized as income over  the periods necessary to match them with  related cost.</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vt. grants in the form of non-monetary assets given at concessional rate be accounted for  on the basis of their acquisition cost. However IND AS-20 – at fair value.</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gn="just">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Refund of Govt. grants:</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e to depreciable asset be recorded by increasing the actual cost or WDV.   Where the actual cost of the asset is increased, depreciation on revised actual cost or WDV be provided prospectively </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e to others, first against any unamortized  deferred credit remaining and / or be charged  to P &amp; L statement </a:t>
            </a:r>
            <a:endParaRPr b="0" lang="en-US" sz="1600" spc="-1" strike="noStrike">
              <a:solidFill>
                <a:srgbClr val="000000"/>
              </a:solidFill>
              <a:latin typeface="Arial"/>
            </a:endParaRPr>
          </a:p>
        </p:txBody>
      </p:sp>
      <p:sp>
        <p:nvSpPr>
          <p:cNvPr id="150"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18DF8F31-3B95-4441-B813-BC2FF98575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Vs. AM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tax  - on timing differen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rate would remain the sa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ssessment year 2016/17 installment of advance tax and thereaf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ies Vs. ICDS.</a:t>
            </a:r>
            <a:endParaRPr b="0" lang="en-US" sz="1800" spc="-1" strike="noStrike">
              <a:solidFill>
                <a:srgbClr val="000000"/>
              </a:solidFill>
              <a:latin typeface="Arial"/>
            </a:endParaRPr>
          </a:p>
        </p:txBody>
      </p:sp>
      <p:sp>
        <p:nvSpPr>
          <p:cNvPr id="52" name=""/>
          <p:cNvSpPr/>
          <p:nvPr/>
        </p:nvSpPr>
        <p:spPr>
          <a:xfrm>
            <a:off x="533520" y="304920"/>
            <a:ext cx="8076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326B31F-867D-458F-9EC6-4053747C9E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ure &amp; extent recognized by way of deduction from the actual cost of the asset.  If not recognized  the reas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ure &amp; extent recognized as income.  If not  recognized the reas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57200" y="228600"/>
            <a:ext cx="807732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BB83FFB-524B-4721-930C-54B7D7E12F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CDS VIII – Securities:</a:t>
            </a:r>
            <a:br>
              <a:rPr sz="2400"/>
            </a:br>
            <a:endParaRPr b="0" lang="en-US" sz="2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796320" indent="-79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securities held as stock-in-trade. Held as capital assets not covered; e.g.  In case of FIIs, FPI</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u="sng">
                <a:solidFill>
                  <a:srgbClr val="000000"/>
                </a:solidFill>
                <a:uFillTx/>
                <a:latin typeface="Arial"/>
              </a:rPr>
              <a:t>Does not deal with:</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est and dividends on securities.</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d by a person engaged in the business of insurance.</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d by Mutual Fund, VCF Banks &amp; Financial Institution</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rivative as it is not security as per Securities Contract (Regulation) Act (SCRA)</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u="sng">
                <a:solidFill>
                  <a:srgbClr val="000000"/>
                </a:solidFill>
                <a:uFillTx/>
                <a:latin typeface="Arial"/>
              </a:rPr>
              <a:t>Initial Recognition &amp; Measurement</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cquisition at actual cost.</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nclude acquisition charges such as brokerage , fees, tax (STT)</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uty or cess and  not demate charges.</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n exchange for other securities, the FV of security  so acquired.</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In exchange of another asset, the FV of  securities so acquired.</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p:nvPr/>
        </p:nvSpPr>
        <p:spPr>
          <a:xfrm>
            <a:off x="457200" y="0"/>
            <a:ext cx="830592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VIII – SECURITI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B39A7E96-7A59-4B2D-93FE-AEEC6A5768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Where unpaid interest (coupon) accrued before the acquisition is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d in price paid  for security, the subsequent  receipt is allocated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 Pre-  acquisition and  post acquisition period.  Pre-acquisition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tion of  interest is deducted from the actual cost.</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bsequent measurement at the year end:</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the end, held in stock-in-trade, at actual cost or NRV, whichever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less [Chainrup Sampatram Vs. CIT – 24 ITR 285 (SC)]</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Comparison  of actual cost and NRV be category- wise and not for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individual security e.g. shares, debt securities, convertible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ies and  any other securities.</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Value of securities held as stock-in-trade of a business:</a:t>
            </a:r>
            <a:endParaRPr b="0" lang="en-US" sz="1800" spc="-1" strike="noStrike">
              <a:solidFill>
                <a:srgbClr val="000000"/>
              </a:solidFill>
              <a:latin typeface="Arial"/>
            </a:endParaRPr>
          </a:p>
          <a:p>
            <a:pPr lvl="1" marL="1168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57200" y="228600"/>
            <a:ext cx="82296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7C5CE35-8336-43C9-9B5B-F11F0C0215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ecurities available, if any, on day of the commencement of the  business</a:t>
            </a:r>
            <a:endParaRPr b="0" lang="en-US" sz="1800" spc="-1" strike="noStrike">
              <a:solidFill>
                <a:srgbClr val="000000"/>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ecurities of business as on  close of immediate preceding  previous year</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ies not listed or listed but not quoted on recognized stock exchange regularly be valued at initial actual cost; and not to near date.</a:t>
            </a:r>
            <a:endParaRPr b="0" lang="en-US" sz="1800" spc="-1" strike="noStrike">
              <a:solidFill>
                <a:srgbClr val="000000"/>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actual cost can not be ascertained by reference to specific identification, the cost of such security be  determined on the basis of FIFO</a:t>
            </a:r>
            <a:endParaRPr b="0" lang="en-US" sz="1800" spc="-1" strike="noStrike">
              <a:solidFill>
                <a:srgbClr val="000000"/>
              </a:solidFill>
              <a:latin typeface="Arial"/>
            </a:endParaRPr>
          </a:p>
        </p:txBody>
      </p:sp>
      <p:sp>
        <p:nvSpPr>
          <p:cNvPr id="161" name="PlaceHolder 2"/>
          <p:cNvSpPr>
            <a:spLocks noGrp="1"/>
          </p:cNvSpPr>
          <p:nvPr>
            <p:ph type="title"/>
          </p:nvPr>
        </p:nvSpPr>
        <p:spPr>
          <a:xfrm>
            <a:off x="457200" y="30456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415D7A0-963D-4FFC-A1EC-0C23D3868C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cope:</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als with treatment of borrowing cost.</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Does not deal with actual or imputed cost  of owner’s equity and </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ference share capital.</a:t>
            </a:r>
            <a:endParaRPr b="0" lang="en-US" sz="1800" spc="-1" strike="noStrike">
              <a:solidFill>
                <a:srgbClr val="000000"/>
              </a:solidFill>
              <a:latin typeface="Arial"/>
            </a:endParaRPr>
          </a:p>
          <a:p>
            <a:pPr marL="812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finition:</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orrowing cost” are interest &amp; other costs  in connection with borrowing funds &amp; include:</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Commitment charges</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Amortized amount  of premiums or discounts</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Amortized  amount of ancillary cost</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Finance charges in respect of asset acquired under  finance lease or other  similar arrangements.</a:t>
            </a:r>
            <a:endParaRPr b="0" lang="en-US" sz="18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IX – BORROWING CO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6EF57E9D-480A-4C1F-A1B3-DA504A607C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b)      </a:t>
            </a:r>
            <a:r>
              <a:rPr b="0" lang="en-US" sz="2800" spc="-1" strike="noStrike">
                <a:solidFill>
                  <a:srgbClr val="000000"/>
                </a:solidFill>
                <a:latin typeface="Arial"/>
              </a:rPr>
              <a:t> </a:t>
            </a:r>
            <a:r>
              <a:rPr b="0" lang="en-US" sz="1800" spc="-1" strike="noStrike">
                <a:solidFill>
                  <a:srgbClr val="000000"/>
                </a:solidFill>
                <a:latin typeface="Arial"/>
              </a:rPr>
              <a:t>“Qualifying asset”  means:</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land, building, machinery, plant (includes books etc.) or furniture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ing tangible assets;</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Know how, patents, copyrights, trade mark, licenses  franchises or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other business or commercial  rights being intangible assets.</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Inventories that require a period of twelve  months or more to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ing them to a saleable condition.</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  which mean that borrowing cost for Tangible &amp; Intangible  assets for short period has to be capitalized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cognition:</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Borrowing costs – directly attributable to acquisition, construction or </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ion of qualifying asset be capitalized  as part of the cost of that </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t.</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In case of qualifying  inventory – borrowing  cost be added as cost of </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entory.</a:t>
            </a:r>
            <a:endParaRPr b="0" lang="en-US" sz="1800" spc="-1" strike="noStrike">
              <a:solidFill>
                <a:srgbClr val="000000"/>
              </a:solidFill>
              <a:latin typeface="Arial"/>
            </a:endParaRPr>
          </a:p>
        </p:txBody>
      </p:sp>
      <p:sp>
        <p:nvSpPr>
          <p:cNvPr id="165" name="PlaceHolder 2"/>
          <p:cNvSpPr>
            <a:spLocks noGrp="1"/>
          </p:cNvSpPr>
          <p:nvPr>
            <p:ph type="title"/>
          </p:nvPr>
        </p:nvSpPr>
        <p:spPr>
          <a:xfrm>
            <a:off x="457200" y="30456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D127A97-656C-4175-AC8A-1F5312F61A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orrowing costs eligible for Capitalization:</a:t>
            </a:r>
            <a:endParaRPr b="0" lang="en-US" sz="1800" spc="-1" strike="noStrike">
              <a:solidFill>
                <a:srgbClr val="000000"/>
              </a:solidFill>
              <a:latin typeface="Arial"/>
            </a:endParaRPr>
          </a:p>
          <a:p>
            <a:pPr marL="812880" indent="-812880" algn="just">
              <a:lnSpc>
                <a:spcPct val="95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specifically for the purposes of acquisition, construction or </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ion of  qualifying asset be capitalized and added to on that asset</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5000"/>
              </a:lnSpc>
              <a:spcBef>
                <a:spcPts val="451"/>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generally and utilized for purpose of acquisition, construction or production of qualifying asset  and amount of borrowing costs eligible for Capitalization should be determined by applying a Capitalization rate to the expenditure on that asset. Average cost of qualifying asset on first day and  last day by the average of amount of total asset on first day  and last day.</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So funds have been borrowed for the purpose of acquisition of asset or for qualifying  inventory, but used generally will have to be capitalized?</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2"/>
          <p:cNvSpPr>
            <a:spLocks noGrp="1"/>
          </p:cNvSpPr>
          <p:nvPr>
            <p:ph type="title"/>
          </p:nvPr>
        </p:nvSpPr>
        <p:spPr>
          <a:xfrm>
            <a:off x="30492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1DB26547-42B1-44C6-B934-0048C20B9B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encement of Capitalization</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660240" indent="-660240" algn="just">
              <a:lnSpc>
                <a:spcPct val="90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ll commence from the date on which funds were borrowed   specifically for  a particular asset and not from the commencement of construction of assets – Vs. AS 16.</a:t>
            </a:r>
            <a:endParaRPr b="0" lang="en-US" sz="1800" spc="-1" strike="noStrike">
              <a:solidFill>
                <a:srgbClr val="000000"/>
              </a:solidFill>
              <a:latin typeface="Arial"/>
            </a:endParaRPr>
          </a:p>
          <a:p>
            <a:pPr marL="660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660240" algn="just">
              <a:lnSpc>
                <a:spcPct val="90000"/>
              </a:lnSpc>
              <a:spcBef>
                <a:spcPts val="451"/>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generally from the date on which fund were utilized.</a:t>
            </a:r>
            <a:endParaRPr b="0" lang="en-US" sz="1800" spc="-1" strike="noStrike">
              <a:solidFill>
                <a:srgbClr val="000000"/>
              </a:solidFill>
              <a:latin typeface="Arial"/>
            </a:endParaRPr>
          </a:p>
          <a:p>
            <a:pPr marL="6602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essation of Capitalization:</a:t>
            </a:r>
            <a:endParaRPr b="0" lang="en-US" sz="1800" spc="-1" strike="noStrike">
              <a:solidFill>
                <a:srgbClr val="000000"/>
              </a:solidFill>
              <a:latin typeface="Arial"/>
            </a:endParaRPr>
          </a:p>
          <a:p>
            <a:pPr marL="660240" indent="-660240" algn="just">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costs shall cease when tangible and intangible asset is first put to use and not ready  for use.  So in the case of interruption, capitalization would continue and not suspended.</a:t>
            </a:r>
            <a:endParaRPr b="0" lang="en-US" sz="1800" spc="-1" strike="noStrike">
              <a:solidFill>
                <a:srgbClr val="000000"/>
              </a:solidFill>
              <a:latin typeface="Arial"/>
            </a:endParaRPr>
          </a:p>
          <a:p>
            <a:pPr marL="6602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660240" algn="just">
              <a:spcBef>
                <a:spcPts val="451"/>
              </a:spcBef>
              <a:buClr>
                <a:srgbClr val="000000"/>
              </a:buClr>
              <a:buFont typeface="Arial"/>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qualifying inventory when substantially all activities necessary to prepare such inventory for  its intended sale, are complete.</a:t>
            </a:r>
            <a:endParaRPr b="0" lang="en-US" sz="1800" spc="-1" strike="noStrike">
              <a:solidFill>
                <a:srgbClr val="000000"/>
              </a:solidFill>
              <a:latin typeface="Arial"/>
            </a:endParaRPr>
          </a:p>
          <a:p>
            <a:pPr marL="6602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F2AB7EFD-603F-429E-8CB3-3929ECDDC8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When the construction of  qualifying asset is completed  in parts and completed in part is capable of being used  while construction continues  for other parts. Capitalization of borrowing cost in relation to that part shall cease.</a:t>
            </a:r>
            <a:endParaRPr b="0" lang="en-US" sz="1800" spc="-1" strike="noStrike">
              <a:solidFill>
                <a:srgbClr val="000000"/>
              </a:solidFill>
              <a:latin typeface="Arial"/>
            </a:endParaRPr>
          </a:p>
          <a:p>
            <a:pPr marL="8128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come from other sources:</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income arising from temporary investment made out of borrowed funds, would be income as against the present requirements of AS 16 of reducing the same from borrowing cost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ticorin Alkali Chemicals &amp; Fertilizers Ltd. Vs. CIT [228 ITR 172 (SC)]</a:t>
            </a:r>
            <a:endParaRPr b="0" lang="en-US" sz="1800" spc="-1" strike="noStrike">
              <a:solidFill>
                <a:srgbClr val="000000"/>
              </a:solidFill>
              <a:latin typeface="Arial"/>
            </a:endParaRPr>
          </a:p>
          <a:p>
            <a:pPr marL="8128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y adopted for borrowing costs; and</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borrowing costs capitalized.</a:t>
            </a:r>
            <a:endParaRPr b="0" lang="en-US" sz="1800" spc="-1" strike="noStrike">
              <a:solidFill>
                <a:srgbClr val="000000"/>
              </a:solidFill>
              <a:latin typeface="Arial"/>
            </a:endParaRPr>
          </a:p>
          <a:p>
            <a:pPr marL="812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2778713-5873-4771-9A9E-BF462489C7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ope:</a:t>
            </a:r>
            <a:endParaRPr b="0" lang="en-US" sz="2000" spc="-1" strike="noStrike">
              <a:solidFill>
                <a:srgbClr val="000000"/>
              </a:solidFill>
              <a:latin typeface="Arial"/>
            </a:endParaRPr>
          </a:p>
          <a:p>
            <a:pPr marL="609480" indent="-60948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vered : (i) Financial Instruments, ( ii) Executory  Contracts (iii) Insurance business from  contract with policyholder and (iv) covered by another ICDS.</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The term ‘provision’ used in the context of depreciation, impairment of assets and doubtful debts;  which are adjustments of assets are not covered.</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vision</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s a liability which can be measured only by using substantial degree of   </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ion </a:t>
            </a:r>
            <a:endParaRPr b="0" lang="en-US" sz="18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ll be recognized when  a) a person has present obligation as a result of a past event; (b) it is reasonably  certain (instead of probable) that an outflow of resources will be  required to settle the obligation and (c) a reliable estimate can be  made of the  amount of oblig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457200" y="228600"/>
            <a:ext cx="82296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CDS X -  PROVISIONS, CONTINGENT LIABILITY  &amp; CONTINGENT ASSE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98D3CA1-C999-439B-8700-999727A35C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significant Accounting Policies</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 deals with  selection and application of Accounting Polices viz. (a) prudence (b) substance over form  and materiality.</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DS does not recognize the prudence e.g. retention money in the construction contracts  (ICDS –III) chargeable  even though  receipt is not  certain etc.,</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CDS recognizes fundamental assumptions:  (a) Going concern, (b) Accrual and (c ) Consistency.</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ies  refer to  specific Accounting Principles and Methods.</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is to reflect  true and fair view of the state of affairs and income of business, profession or vocation.  For this purpose: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the treatment and presentation of transactions and events be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ed by  substance and not by legal form  and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marked to market loss or an expected loss is not to be  recognized.</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 37 Vs. ICDS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y shall not be changed without reasonable caus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33520" y="22860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 ACCOUNTING POLIC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202E471-CB0F-460D-AFFE-EC398AA1F7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vision shall not be recognized:</a:t>
            </a: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sts that need to be incurred to operate in future.</a:t>
            </a: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etails  of proposed new law have yet to be finalized, an obligation arises only when legislation enacted.</a:t>
            </a:r>
            <a:endParaRPr b="0" lang="en-US" sz="1800" spc="-1" strike="noStrike">
              <a:solidFill>
                <a:srgbClr val="000000"/>
              </a:solidFill>
              <a:latin typeface="Arial"/>
            </a:endParaRPr>
          </a:p>
          <a:p>
            <a:pPr marL="6602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tingent liabilities  and contingent asset be recognized:</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tingent asset has to be provided if there is reasonable certainty of inflow</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income Vs. virtual certainty as per AS 29.</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u="sng">
                <a:solidFill>
                  <a:srgbClr val="000000"/>
                </a:solidFill>
                <a:uFillTx/>
                <a:latin typeface="Arial"/>
              </a:rPr>
              <a:t>Measurement of Liabilities and Assets</a:t>
            </a: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estimate  of the expenditure required to settle the present obligation.  The amount of a provision shall not  be discounted to its present value.</a:t>
            </a:r>
            <a:endParaRPr b="0" lang="en-US" sz="1800" spc="-1" strike="noStrike">
              <a:solidFill>
                <a:srgbClr val="000000"/>
              </a:solidFill>
              <a:latin typeface="Arial"/>
            </a:endParaRPr>
          </a:p>
          <a:p>
            <a:pPr marL="6602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recognized as asset and related income shall be the best estimate of the future  economic benefit arising at the end of the  previous year.</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B17BE83C-580B-4E57-9F30-72D70EA690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imbursement</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imbursement shall be recognized when it is reasonably  certain that </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mbursement will be received.  The amount recognized shall not exceed the</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ount of provision.</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view:</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s  be reviewed  at the end of each previous year.</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to be reversed when there is no longer reasonably certain that outflow of resources embodying  economic benefit will be required to settle  the obligation.</a:t>
            </a:r>
            <a:endParaRPr b="0" lang="en-US" sz="1800" spc="-1" strike="noStrike">
              <a:solidFill>
                <a:srgbClr val="000000"/>
              </a:solidFill>
              <a:latin typeface="Arial"/>
            </a:endParaRPr>
          </a:p>
          <a:p>
            <a:pPr marL="8128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2"/>
          <p:cNvSpPr>
            <a:spLocks noGrp="1"/>
          </p:cNvSpPr>
          <p:nvPr>
            <p:ph type="title"/>
          </p:nvPr>
        </p:nvSpPr>
        <p:spPr>
          <a:xfrm>
            <a:off x="38088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62F84886-0955-4BA3-B024-A4DC61977B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 in respect of provision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spect of each class of provision, viz.</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ef description of the nature of the oblig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ing amount at beginning &amp; at the en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provision including increase to existing provision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charges against the provis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 amount reverse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any expected reimburse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 respect of each class of asset and related incom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brief description of nature of asset and related incom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arrying amount of asset at beginning &amp; at the end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tional amount of  assets &amp; related income and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ount of asset &amp; related income reversed</a:t>
            </a:r>
            <a:endParaRPr b="0" lang="en-US" sz="1800" spc="-1" strike="noStrike">
              <a:solidFill>
                <a:srgbClr val="000000"/>
              </a:solidFill>
              <a:latin typeface="Arial"/>
            </a:endParaRPr>
          </a:p>
        </p:txBody>
      </p:sp>
      <p:sp>
        <p:nvSpPr>
          <p:cNvPr id="180" name="PlaceHolder 2"/>
          <p:cNvSpPr>
            <a:spLocks noGrp="1"/>
          </p:cNvSpPr>
          <p:nvPr>
            <p:ph type="title"/>
          </p:nvPr>
        </p:nvSpPr>
        <p:spPr>
          <a:xfrm>
            <a:off x="45720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F185967-B9C1-4C25-8815-4C2DA76487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
        <p:nvSpPr>
          <p:cNvPr id="182" name="PlaceHolder 2"/>
          <p:cNvSpPr>
            <a:spLocks noGrp="1"/>
          </p:cNvSpPr>
          <p:nvPr>
            <p:ph type="title"/>
          </p:nvPr>
        </p:nvSpPr>
        <p:spPr>
          <a:xfrm>
            <a:off x="457200" y="269640"/>
            <a:ext cx="8229600" cy="1152360"/>
          </a:xfrm>
          <a:prstGeom prst="rect">
            <a:avLst/>
          </a:prstGeom>
          <a:solidFill>
            <a:srgbClr val="bbe0e3"/>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0E7FE46C-E301-403E-AAD8-DB7C5BB931CA}"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ignificant Accounting Policies be disclosed.</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nge of Accounting Policy  having material effect be disclosed.</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by which any item is affected by such change be disclosed to the   extent ascertainable. If amount is unascertainable  the fact be stated.</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nge in Accounting Policy  which has no material effect for current previous year but  it is reasonably  expected to have material effect in later year, the fact be disclosed in the previous year in which the change is adopted and also in the previous year in which such change has material effect for the first time.</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osure of Accounting Policies or any change can not remedy a wrong or inappropriate treatment of the item.</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undamental assumptions are not followed – disclosure be made.</a:t>
            </a:r>
            <a:endParaRPr b="0" lang="en-US" sz="1800" spc="-1" strike="noStrike">
              <a:solidFill>
                <a:srgbClr val="000000"/>
              </a:solidFill>
              <a:latin typeface="Arial"/>
            </a:endParaRPr>
          </a:p>
        </p:txBody>
      </p:sp>
      <p:sp>
        <p:nvSpPr>
          <p:cNvPr id="58" name=""/>
          <p:cNvSpPr/>
          <p:nvPr/>
        </p:nvSpPr>
        <p:spPr>
          <a:xfrm>
            <a:off x="457200" y="304920"/>
            <a:ext cx="8305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CLOSURE OF ACCOUNTING POLICI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022D2C0D-C43D-4299-9294-452EBA5E2C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ndard does not apply to :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Work-in-progress  under “construction contract” including directly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d service contra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Work-in-progress dealt by other ICDS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Shares, Debentures &amp; other Financial Instruments held as stock-in-</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de and dealt  by other ICDS i.e. ICDS VIII.</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Producers’  inventories of livestock, agriculture and forest products,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eral oils ores and gases to the extent there are measured at NRV</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Machinery spares, which can be used only with tangible fixed asse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their use is expected to be irregular  - dealt with ICDS V.  </a:t>
            </a:r>
            <a:endParaRPr b="0" lang="en-US" sz="1800" spc="-1" strike="noStrike">
              <a:solidFill>
                <a:srgbClr val="000000"/>
              </a:solidFill>
              <a:latin typeface="Arial"/>
            </a:endParaRPr>
          </a:p>
        </p:txBody>
      </p:sp>
      <p:sp>
        <p:nvSpPr>
          <p:cNvPr id="61" name=""/>
          <p:cNvSpPr/>
          <p:nvPr/>
        </p:nvSpPr>
        <p:spPr>
          <a:xfrm>
            <a:off x="533520" y="304920"/>
            <a:ext cx="8076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I :  VALUATION OF INVENTOR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5CBA30F-A6D5-4A46-9374-E4D917F59E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ventories” are asset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eld for sale in ordinary course of busines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in the process of production for sal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in the form of materials or supplies to be consumed in the production</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or in rendering service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t realizable value” is estimated selling price in the ordinary course of business less the estimated costs of completion and estimated costs necessary to make the sal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shall be valued  at cost or NRV whichever is lower .</a:t>
            </a:r>
            <a:endParaRPr b="0" lang="en-US" sz="1800" spc="-1" strike="noStrike">
              <a:solidFill>
                <a:srgbClr val="000000"/>
              </a:solidFill>
              <a:latin typeface="Arial"/>
            </a:endParaRPr>
          </a:p>
        </p:txBody>
      </p:sp>
      <p:sp>
        <p:nvSpPr>
          <p:cNvPr id="64" name=""/>
          <p:cNvSpPr/>
          <p:nvPr/>
        </p:nvSpPr>
        <p:spPr>
          <a:xfrm>
            <a:off x="533520" y="304920"/>
            <a:ext cx="8153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FINATIONS &amp; MEASUREM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E35AC88F-9953-478A-8373-8885DFF73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Inventori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rises of all cost of purchase, cost of service, cost of conversion and  other costs incurred in bringing inventories to  their present location and condition.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Purchas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st of purchase price including duties and taxes, freight inwards and  other expenditure directly attributable to the acquisition.  Trade discounts, rebate and other similar items be deducted in determining the cos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as per AS-2 cost of purchase are shown at net. i.e. exclusive method</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Servic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st of labour and other costs of personnel directly engaged in providing  service including supervisory personnel and attributable overhead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AS 2 does not deal with costs of services.</a:t>
            </a:r>
            <a:endParaRPr b="0" lang="en-US" sz="1800" spc="-1" strike="noStrike">
              <a:solidFill>
                <a:srgbClr val="000000"/>
              </a:solidFill>
              <a:latin typeface="Arial"/>
            </a:endParaRPr>
          </a:p>
        </p:txBody>
      </p:sp>
      <p:sp>
        <p:nvSpPr>
          <p:cNvPr id="67" name=""/>
          <p:cNvSpPr/>
          <p:nvPr/>
        </p:nvSpPr>
        <p:spPr>
          <a:xfrm>
            <a:off x="533520" y="304920"/>
            <a:ext cx="8076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ATION OF COS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54E61D3-9AF7-48F9-B065-5B2F63160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9T07:35:06Z</dcterms:created>
  <dc:creator>administrator # anita # owner</dc:creator>
  <dc:description/>
  <dc:language>en-US</dc:language>
  <cp:lastModifiedBy>Owner</cp:lastModifiedBy>
  <dcterms:modified xsi:type="dcterms:W3CDTF">2015-11-25T12:09:09Z</dcterms:modified>
  <cp:revision>113</cp:revision>
  <dc:subject/>
  <dc:title>ICDS</dc:title>
</cp:coreProperties>
</file>