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FCEA-6240-4DBF-9199-E25309F2E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602D-C897-4642-B6AA-C0F1DA44D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6D0-683E-44FC-8C4D-71306391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ED9-BF80-492F-9294-FE631287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EFD-11C2-4972-A3E0-317D3165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B44-8079-4E1C-B05C-995A3739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8CF-DCDD-4A8C-9CB6-145B2A01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6FB-A185-44BC-8DDF-CE13875D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B87-CE38-471E-B5B3-890611A5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023-2CB5-4CE6-82D9-68236854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983-32FF-4C89-A36D-E3F36201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C0A-32B6-42F7-8064-D6193299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0A9-7F17-4932-82FC-ADB7E65F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89E-374F-46B6-8811-E47C2296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91F0-02AE-4272-8BFA-B743FEC49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elated image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" descr=""/>
          <p:cNvPicPr/>
          <p:nvPr/>
        </p:nvPicPr>
        <p:blipFill>
          <a:blip r:embed="rId2"/>
          <a:stretch/>
        </p:blipFill>
        <p:spPr>
          <a:xfrm>
            <a:off x="-85680" y="-55440"/>
            <a:ext cx="9424800" cy="4371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0" y="4191120"/>
            <a:ext cx="9198000" cy="2666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710040" y="4406760"/>
            <a:ext cx="23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ambria"/>
              </a:rPr>
              <a:t>PRESENT B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986360" y="4952880"/>
            <a:ext cx="4109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mbria"/>
              </a:rPr>
              <a:t>CA. Ramesh S. Prab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airman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, MahaSe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b.:- 9820106766 / 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mail:- rsprabhu1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D:\Main Data\User\Desktop\RSPJPG.png"/>
          <p:cNvPicPr/>
          <p:nvPr/>
        </p:nvPicPr>
        <p:blipFill>
          <a:blip r:embed="rId3"/>
          <a:stretch/>
        </p:blipFill>
        <p:spPr>
          <a:xfrm>
            <a:off x="2670120" y="4392720"/>
            <a:ext cx="1978200" cy="232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57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60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28600" y="1523880"/>
          <a:ext cx="8686800" cy="50482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264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LLECTION FR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216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OM ALLOTT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AT THE TIME OF REGISTR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LLECTION DURING THE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66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69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1" name=""/>
          <p:cNvGraphicFramePr/>
          <p:nvPr/>
        </p:nvGraphicFramePr>
        <p:xfrm>
          <a:off x="228600" y="1523880"/>
          <a:ext cx="8686800" cy="475452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264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 COLLECTION (10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92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MOUNT TO 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POSITED IN RERA ACCOUNT (7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Straight Connector 2"/>
          <p:cNvSpPr/>
          <p:nvPr/>
        </p:nvSpPr>
        <p:spPr>
          <a:xfrm>
            <a:off x="4267080" y="32767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4267080" y="4038480"/>
            <a:ext cx="4648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9"/>
          <p:cNvSpPr/>
          <p:nvPr/>
        </p:nvSpPr>
        <p:spPr>
          <a:xfrm>
            <a:off x="4267080" y="39625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78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81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228600" y="1523880"/>
          <a:ext cx="8686800" cy="462780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300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THDRAW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26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WARDS LAND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AT THE TIME OF REGISTR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87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90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2" name=""/>
          <p:cNvGraphicFramePr/>
          <p:nvPr/>
        </p:nvGraphicFramePr>
        <p:xfrm>
          <a:off x="228600" y="1523880"/>
          <a:ext cx="8686800" cy="420696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300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WARDS CONSTRUCTION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AT THE TIME OF REGISTR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4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96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99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228600" y="1523880"/>
          <a:ext cx="8686800" cy="462780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300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RING THE YEAR (1ST APRI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ST MARCH 201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WARDS LAND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05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08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228600" y="1523880"/>
          <a:ext cx="8686800" cy="50482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300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WARDS CONSTRUCTION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841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 WITHDRAW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180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LANCE (EXCESS WITHDRAW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C4-W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1" name="Straight Connector 6"/>
          <p:cNvSpPr/>
          <p:nvPr/>
        </p:nvSpPr>
        <p:spPr>
          <a:xfrm>
            <a:off x="4267080" y="457200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7"/>
          <p:cNvSpPr/>
          <p:nvPr/>
        </p:nvSpPr>
        <p:spPr>
          <a:xfrm>
            <a:off x="4267080" y="5257800"/>
            <a:ext cx="4648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traight Connector 8"/>
          <p:cNvSpPr/>
          <p:nvPr/>
        </p:nvSpPr>
        <p:spPr>
          <a:xfrm>
            <a:off x="4267080" y="518148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extBox 1" descr=""/>
          <p:cNvPicPr/>
          <p:nvPr/>
        </p:nvPicPr>
        <p:blipFill>
          <a:blip r:embed="rId1"/>
          <a:stretch/>
        </p:blipFill>
        <p:spPr>
          <a:xfrm>
            <a:off x="-652320" y="1792440"/>
            <a:ext cx="96566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2T12:23:17Z</dcterms:created>
  <dc:creator>USER</dc:creator>
  <dc:description/>
  <dc:language>en-US</dc:language>
  <cp:lastModifiedBy>user</cp:lastModifiedBy>
  <dcterms:modified xsi:type="dcterms:W3CDTF">2019-11-21T04:14:53Z</dcterms:modified>
  <cp:revision>82</cp:revision>
  <dc:subject/>
  <dc:title>PowerPoint Presentation</dc:title>
</cp:coreProperties>
</file>