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8F4-B491-414B-B5F8-2495B2DC7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03B-4745-4FB6-8FAA-FE446466F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E61-73B6-4251-A345-29290A3E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22B-525F-4C50-8838-5A56ABBB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493-C860-4F96-BB48-198B7E9F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8E8-195C-4FFD-AA39-90E69213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7FD-EC7C-4465-960C-D972DA8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5E8-D1F9-46E2-8FE3-F8A4E1CC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DF7-D108-4F73-8C51-18C587A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C57-7CD8-4E40-9BFB-126B6E2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DBB-09B9-4FCC-B787-206CBC6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D5C-406B-49F3-A5C5-CE3ECA9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FB1-B8FD-421B-8544-D793D97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E75-8EDD-4364-B1AE-E994DD7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9DC-3251-4FDD-9A9F-98737014F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lated image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146160" y="-152280"/>
            <a:ext cx="8851680" cy="4157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0" y="4191120"/>
            <a:ext cx="9198000" cy="2666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10040" y="4406760"/>
            <a:ext cx="23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ambria"/>
              </a:rPr>
              <a:t>PRESENT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986360" y="4952880"/>
            <a:ext cx="410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CA. Ramesh S. Prab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airman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, MahaSe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b.:- 9820106766 / 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ail:- rsprabhu1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D:\Main Data\User\Desktop\RSPJPG.png"/>
          <p:cNvPicPr/>
          <p:nvPr/>
        </p:nvPicPr>
        <p:blipFill>
          <a:blip r:embed="rId3"/>
          <a:stretch/>
        </p:blipFill>
        <p:spPr>
          <a:xfrm>
            <a:off x="2670120" y="4392720"/>
            <a:ext cx="1978200" cy="23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32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35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OTHERS EXPENS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41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44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228600" y="1523880"/>
          <a:ext cx="8686800" cy="457200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WITHDRAWAL TILL 31ST M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LANCE (EXCESS WITHDRAW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C5-W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Straight Connector 6"/>
          <p:cNvSpPr/>
          <p:nvPr/>
        </p:nvSpPr>
        <p:spPr>
          <a:xfrm>
            <a:off x="4267080" y="3352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"/>
          <p:cNvSpPr/>
          <p:nvPr/>
        </p:nvSpPr>
        <p:spPr>
          <a:xfrm>
            <a:off x="4267080" y="4114800"/>
            <a:ext cx="46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8"/>
          <p:cNvSpPr/>
          <p:nvPr/>
        </p:nvSpPr>
        <p:spPr>
          <a:xfrm>
            <a:off x="4267080" y="40384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extBox 1" descr=""/>
          <p:cNvPicPr/>
          <p:nvPr/>
        </p:nvPicPr>
        <p:blipFill>
          <a:blip r:embed="rId1"/>
          <a:stretch/>
        </p:blipFill>
        <p:spPr>
          <a:xfrm>
            <a:off x="-652320" y="1792440"/>
            <a:ext cx="96566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57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0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1523880"/>
          <a:ext cx="8686800" cy="4992840"/>
        </p:xfrm>
        <a:graphic>
          <a:graphicData uri="http://schemas.openxmlformats.org/drawingml/2006/table">
            <a:tbl>
              <a:tblPr/>
              <a:tblGrid>
                <a:gridCol w="762120"/>
                <a:gridCol w="2895480"/>
                <a:gridCol w="2057400"/>
                <a:gridCol w="1828800"/>
                <a:gridCol w="114300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FROM BEGINNING OF THE PROJECT TILL 31ST MARCH,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ALLOTT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66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9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762120"/>
                <a:gridCol w="304776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OTHE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WN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NK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75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78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0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76720"/>
                <a:gridCol w="198108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FOR 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 (1ST APRIL, 2017 TO 31ST MARCH,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84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87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228600" y="1523880"/>
          <a:ext cx="8686800" cy="4754520"/>
        </p:xfrm>
        <a:graphic>
          <a:graphicData uri="http://schemas.openxmlformats.org/drawingml/2006/table">
            <a:tbl>
              <a:tblPr/>
              <a:tblGrid>
                <a:gridCol w="533520"/>
                <a:gridCol w="327636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ALLOTT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OTHE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WN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NK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93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96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228600" y="1523880"/>
          <a:ext cx="8686800" cy="415152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COLLECTION 31ST M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9" name="Straight Connector 4"/>
          <p:cNvSpPr/>
          <p:nvPr/>
        </p:nvSpPr>
        <p:spPr>
          <a:xfrm>
            <a:off x="4267080" y="4648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4267080" y="5486400"/>
            <a:ext cx="46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4267080" y="5410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05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08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228600" y="1523880"/>
          <a:ext cx="8686800" cy="500220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6916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DRAWALS BEGINNING OF THE PROJECT TILL 31ST MARCH,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14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17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OTHERS EXPENS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23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26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 (1ST APRIL, 2017 TO 31ST MARCH,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2T12:23:17Z</dcterms:created>
  <dc:creator>USER</dc:creator>
  <dc:description/>
  <dc:language>en-US</dc:language>
  <cp:lastModifiedBy>user</cp:lastModifiedBy>
  <dcterms:modified xsi:type="dcterms:W3CDTF">2019-11-21T04:13:44Z</dcterms:modified>
  <cp:revision>77</cp:revision>
  <dc:subject/>
  <dc:title>PowerPoint Presentation</dc:title>
</cp:coreProperties>
</file>